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34.jpeg" ContentType="image/jpeg"/>
  <Override PartName="/ppt/media/image33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13.jpeg" ContentType="image/jpeg"/>
  <Override PartName="/ppt/media/image9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35.jpeg" ContentType="image/jpeg"/>
  <Override PartName="/ppt/media/image1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1.jpeg" ContentType="image/jpeg"/>
  <Override PartName="/ppt/media/image21.png" ContentType="image/png"/>
  <Override PartName="/ppt/media/image64.jpeg" ContentType="image/jpeg"/>
  <Override PartName="/ppt/media/image7.jpeg" ContentType="image/jpeg"/>
  <Override PartName="/ppt/media/image15.jpeg" ContentType="image/jpeg"/>
  <Override PartName="/ppt/media/image78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32.jpeg" ContentType="image/jpeg"/>
  <Override PartName="/ppt/media/image70.jpeg" ContentType="image/jpeg"/>
  <Override PartName="/ppt/media/image65.jpeg" ContentType="image/jpeg"/>
  <Override PartName="/ppt/media/image17.png" ContentType="image/png"/>
  <Override PartName="/ppt/media/image39.jpeg" ContentType="image/jpeg"/>
  <Override PartName="/ppt/media/image71.png" ContentType="image/png"/>
  <Override PartName="/ppt/media/image67.jpeg" ContentType="image/jpeg"/>
  <Override PartName="/ppt/media/image69.png" ContentType="image/png"/>
  <Override PartName="/ppt/media/image25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83.jpeg" ContentType="image/jpeg"/>
  <Override PartName="/ppt/media/image24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1.png" ContentType="image/png"/>
  <Override PartName="/ppt/media/image51.jpeg" ContentType="image/jpeg"/>
  <Override PartName="/ppt/media/image11.jpeg" ContentType="image/jpeg"/>
  <Override PartName="/ppt/media/image28.jpeg" ContentType="image/jpeg"/>
  <Override PartName="/ppt/media/image29.jpeg" ContentType="image/jpeg"/>
  <Override PartName="/ppt/media/image12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54.png" ContentType="image/png"/>
  <Override PartName="/ppt/media/image76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4240" y="30240"/>
            <a:ext cx="9996480" cy="73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00ffff"/>
                </a:solidFill>
                <a:latin typeface="Times New Roman"/>
                <a:ea typeface="HG Mincho Light J"/>
              </a:rPr>
              <a:t>PLANETY                         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en-GB" sz="6000" spc="-1" strike="noStrike">
                <a:solidFill>
                  <a:srgbClr val="00ffff"/>
                </a:solidFill>
                <a:latin typeface="Times New Roman"/>
                <a:ea typeface="HG Mincho Light J"/>
              </a:rPr>
              <a:t>                POZASŁONECZ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yski wokół młodych gwiaz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2000" y="1006560"/>
            <a:ext cx="965196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3120" y="952560"/>
            <a:ext cx="5894280" cy="63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Koronograf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2000" y="1347840"/>
            <a:ext cx="965196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yski rozciągają się nawet do 1000 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oronografy blokują światło gwiazdy i pozwalają zajrzeć nam głębiej do dys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niektórych przypadkach jesteśmy w stanie dojść do miejsca, w którym tworzą się planet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Koronografy w ak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2000" y="952560"/>
            <a:ext cx="9651960" cy="64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ierścienie materii -młody pas Kuipera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9510480" cy="53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Koronografy w ak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2000" y="952560"/>
            <a:ext cx="9651960" cy="64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4040" y="755640"/>
            <a:ext cx="9564840" cy="668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ysk wokół Beta Pictor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2000" y="952560"/>
            <a:ext cx="9651960" cy="64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eta Pictoris leży w odległości 63 l.s., ma 17 mas Słońca i 100 mln lat.  Masa pyłu = 0.1 masy Ziemi. Maza gazu = 100 mas Ziemi. Widoczne wygięcie dysku w obszarze 30 -100 A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8960" y="22860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ysk wokół Beta Pictor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2000" y="952560"/>
            <a:ext cx="9651960" cy="64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m starszy układ tym mniejsza emisja w podczerwie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0600" y="1574640"/>
            <a:ext cx="755640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łode plan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2000" y="1473120"/>
            <a:ext cx="9651960" cy="58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iem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 czego powstają gwiazdy i plan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k przebiegają wczesne etapy ewolu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ie wiem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 sprawia, że w dysku pojawiają się zalążki plan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eśli nie dyski, to c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2000" y="1006560"/>
            <a:ext cx="965196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wiazdy się zataczają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3840" y="1654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omiary astrometryc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2000" y="1006560"/>
            <a:ext cx="965196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wiazdy się zataczają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6000" y="1671480"/>
            <a:ext cx="6325920" cy="4061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117960" y="5811840"/>
            <a:ext cx="684828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omiary astrometryc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2000" y="1006560"/>
            <a:ext cx="965196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9240" y="790560"/>
            <a:ext cx="96282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22160" y="162000"/>
            <a:ext cx="8607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Wstę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2000" y="1006560"/>
            <a:ext cx="965196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emy o tym, że Słońce ma układ planetar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łońce jest jedną ze 100 miliardów gwiazd Galakty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obserwowanym Wszechświecie jest okolo 100 miliardów galakty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est duże prawdopodobieństwo, że istnieją inne układy planet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nad 10 lat temu znaliśmy jednak tylko jeden taki ukła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omiary astrometryczne -czy to łat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5200" y="1258560"/>
            <a:ext cx="339732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ch Słońca na sferze niebieskiej spowodowany grawitacją planet widziany z odległości 30 lat świetl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0840" y="920880"/>
            <a:ext cx="6726240" cy="6362640"/>
            <a:chOff x="150840" y="920880"/>
            <a:chExt cx="6726240" cy="636264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68160" y="1300320"/>
              <a:ext cx="5691240" cy="52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50840" y="2944800"/>
              <a:ext cx="6726240" cy="3668760"/>
            </a:xfrm>
            <a:prstGeom prst="roundRect">
              <a:avLst>
                <a:gd name="adj" fmla="val 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160" y="920880"/>
              <a:ext cx="6208560" cy="4174920"/>
            </a:xfrm>
            <a:prstGeom prst="roundRect">
              <a:avLst>
                <a:gd name="adj" fmla="val 3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39640" y="1300320"/>
              <a:ext cx="5950080" cy="55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962000" y="3071880"/>
              <a:ext cx="9064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462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20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16160" y="4462560"/>
              <a:ext cx="9064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462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60880" y="4083120"/>
              <a:ext cx="9064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462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79680" y="2438280"/>
              <a:ext cx="9064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462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79680" y="3703680"/>
              <a:ext cx="9064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462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8160" y="6740640"/>
              <a:ext cx="5691240" cy="379440"/>
            </a:xfrm>
            <a:prstGeom prst="roundRect">
              <a:avLst>
                <a:gd name="adj" fmla="val 41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16160" y="6993000"/>
              <a:ext cx="4268520" cy="1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84720" y="3956040"/>
              <a:ext cx="9046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462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20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32040" y="2058840"/>
              <a:ext cx="11653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462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3300"/>
                  </a:solidFill>
                  <a:latin typeface="Times New Roman"/>
                  <a:ea typeface="HG Mincho Light J"/>
                </a:rPr>
                <a:t>20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32040" y="6993000"/>
              <a:ext cx="336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spcBef>
                  <a:spcPts val="825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3300"/>
                  </a:solidFill>
                  <a:latin typeface="Arial Unicode MS"/>
                  <a:ea typeface="HG Mincho Light J"/>
                </a:rPr>
                <a:t>0.002</a:t>
              </a:r>
              <a:r>
                <a:rPr b="1" lang="en-GB" sz="1400" spc="-1" strike="noStrike">
                  <a:solidFill>
                    <a:srgbClr val="cc3300"/>
                  </a:solidFill>
                  <a:latin typeface="StarSymbol"/>
                  <a:ea typeface="HG Mincho Light J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omiary astrometryc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2000" y="1221840"/>
            <a:ext cx="9651960" cy="61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1969 roku van de Kamp oglosił odkrycie dwóch planet wokół gwiazdy Barnarda. Okresy orbitalne 12 i 26 l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k na podstawie 10 lat obserwacji można określić okresy 12 i 26 l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kt nie potwierdził tego odkryc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1983 roku Harrington et al donieśli o odkryciu obiektu 50 razy cięższego od Jowisza zakłócającego ruch gwiazdy VB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dkrycie także nie zostało potwierd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zypadkowe odkryci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2000" y="1221840"/>
            <a:ext cx="9651960" cy="61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1991 A. Wolszczan i W. Frail obserwowali pulsara PSR1257+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ykorzystali przerwę serwisową na 305-metrowym radioteleskopie Arecibo w Puerto 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3920" y="3600360"/>
            <a:ext cx="4572000" cy="3675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40280" y="3616200"/>
            <a:ext cx="4783320" cy="36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uls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2000" y="934560"/>
            <a:ext cx="965196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lsary to gwiazdy neutronowe z aktywnym obszarem na powierzchni. Działają jak latarnie morsk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03640" y="2103480"/>
            <a:ext cx="560376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ulsary -naturalne zeg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2000" y="1221840"/>
            <a:ext cx="9651960" cy="61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tują bardzo szbko, najszybsze nawet kilkaset razy na sekund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skonałe zegary! Są tak regularne, że nie wiemy nawet jak regularne, bo nie umiemy tego zmierzyć. Nasze zagary atomowe są za mało dokład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kliczne zaburzenia w “timingu” pulsów mogą być efektem ruchu pulsara w przestrzeni (efekt Dopple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ulsary -naturalne zeg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2000" y="809280"/>
            <a:ext cx="9651960" cy="65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k docierają do nas sygnał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23840" y="1347840"/>
            <a:ext cx="7944120" cy="60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lanety wokół pulsara -falst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2000" y="1168560"/>
            <a:ext cx="965196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1991 roku brytyjska grupa astronomów kierowana przez Matthewa Bailesa doniosła o odkryciu zmian częstotliwości pulsów pulsara PSR1829-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miany te miała powodować plane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miany powodował “bug” w programie komputerowym redukującym d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lanety wokół pulsara -falst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2000" y="1168560"/>
            <a:ext cx="965196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styczniowym numerze “Nature” z 1992 roku A. Wolszczan i W. Frail donieśli o odkryciu cykliczynych zakłóceń w czasach nadejścia pulsów z pulsara PSR1257+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lsar jest oddalony od nas o 2630 lat swietl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kres rotacji pulsara wynosi 0.00621853193177 s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ierwsze reakcje były sceptycz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raz znamy 4 planety w układzie PSR 1257+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SR1257 +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2000" y="1347840"/>
            <a:ext cx="965196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30360" y="969840"/>
            <a:ext cx="6772320" cy="63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SR1257 +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2000" y="1347840"/>
            <a:ext cx="965196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851120" y="898560"/>
            <a:ext cx="618336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laczego nie widzimy planet bezpośren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2000" y="1006560"/>
            <a:ext cx="965196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1000" y="1347840"/>
            <a:ext cx="937260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SR1257 +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2000" y="1347840"/>
            <a:ext cx="965196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4360" y="903240"/>
            <a:ext cx="9159840" cy="64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SR1257 +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2000" y="887040"/>
            <a:ext cx="9651960" cy="64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ierwsze planety są w najmniej spodziwanym miejs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nety o takiej masie powinny zostać odparowane podczas wybuchu supernow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ćmoże są to pozostałości dużo masywniejszych obiek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dyby przetrwały wybuch supernowej ich orbity musiałby być bardzo eliptyczne (są prawie koło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że powstały z materii wyrzuconej podczas wybuchu? Nie bardzo wiemy ja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nne plan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2000" y="1807920"/>
            <a:ext cx="9651960" cy="55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koro planety znajduje się w tak ekstremalnym środowisku, to powinno ich być dużo wokół zwykłych gwiaz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ak jeszcze możemy wykrywać plane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3040" y="887400"/>
            <a:ext cx="9652320" cy="62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uch wokół wspólnego środka mas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162400" y="5514840"/>
            <a:ext cx="4805640" cy="1906560"/>
            <a:chOff x="5162400" y="5514840"/>
            <a:chExt cx="4805640" cy="1906560"/>
          </a:xfrm>
        </p:grpSpPr>
        <p:sp>
          <p:nvSpPr>
            <p:cNvPr id="152" name=""/>
            <p:cNvSpPr/>
            <p:nvPr/>
          </p:nvSpPr>
          <p:spPr>
            <a:xfrm>
              <a:off x="5162400" y="5514840"/>
              <a:ext cx="4805640" cy="1906560"/>
            </a:xfrm>
            <a:prstGeom prst="rect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62400" y="5514840"/>
              <a:ext cx="4805640" cy="14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71000"/>
                </a:lnSpc>
                <a:spcBef>
                  <a:spcPts val="1063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ZIEMIA:  150 000 000 km, 30 km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1000"/>
                </a:lnSpc>
                <a:spcBef>
                  <a:spcPts val="1063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SŁOŃCE:              450 km,    9 cm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1000"/>
                </a:lnSpc>
                <a:spcBef>
                  <a:spcPts val="462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1000"/>
                </a:lnSpc>
                <a:spcBef>
                  <a:spcPts val="1063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JOWISZ:  780 000 000 km, 13 km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1000"/>
                </a:lnSpc>
                <a:spcBef>
                  <a:spcPts val="1063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SŁOŃCE:        750 000 km, 13   m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9160" y="1549440"/>
            <a:ext cx="4902120" cy="48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ak jeszcze możemy wykrywać plane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3040" y="887400"/>
            <a:ext cx="9652320" cy="62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fekt Doppl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62240" y="1582560"/>
            <a:ext cx="7549920" cy="574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ak jeszcze możemy wykrywać plane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3040" y="887400"/>
            <a:ext cx="9652320" cy="62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fekt Dopplera - krzywa prędkości radialnej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1776240"/>
            <a:ext cx="4711680" cy="5384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262480" y="6167520"/>
            <a:ext cx="469764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326280" y="1533600"/>
            <a:ext cx="2570040" cy="823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942160" y="3841920"/>
            <a:ext cx="3369960" cy="224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927760" y="2478240"/>
            <a:ext cx="3419280" cy="125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fekt Doppl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3040" y="887400"/>
            <a:ext cx="9652320" cy="62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eby stosować tą metodę musimy dysponować dużym teleskopem z dobrym spektrograf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piero w latach 90tych precyzja pomiarów pozwoliła z przesunięćlinii widmowych odczytywać prędkości na poziomie kilku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oda jest żmudna. Kosmici chcący wykryć Jowisza z odległości 30 lat świetlnych musieliby mieć instrumenty takie jak my obecnie i musieliby robić dokładne widma Słońca przez 12 lat, bo tyle wynosi okres obiegu Jowis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rzywa prędkości radialnej musi pokrywać cały okr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erwsza planeta u normalnej gwiaz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03040" y="887400"/>
            <a:ext cx="9652320" cy="62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 1995 roku szwajcarscy astronomowie Michel Mayor i Didier Queloz z Obserwatorium Genewskiego ogłosili, że cykliczne zmiany w liniach widmowych pobliskiej gwiazdy 51 Peg sugerują istnienie planety o masie 0.5 masy Jowisza, krążącej w odległości 0.05 AU i o okresie orbitalnym 4.2 d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0200" y="3260880"/>
            <a:ext cx="4894560" cy="4079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02280" y="3809880"/>
            <a:ext cx="4746600" cy="35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51 P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03040" y="887400"/>
            <a:ext cx="9652320" cy="62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rzywa prędkości radia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25440" y="1549440"/>
            <a:ext cx="752472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51 P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3040" y="887400"/>
            <a:ext cx="9652320" cy="62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b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06520" y="1452600"/>
            <a:ext cx="545940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laczego nie widzimy planet bezpośren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2000" y="1006560"/>
            <a:ext cx="965196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4280" y="1455840"/>
            <a:ext cx="937260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51 P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03040" y="887400"/>
            <a:ext cx="9652320" cy="62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łasn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452680" y="1517760"/>
            <a:ext cx="545940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51 Peg -sceptycyz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3040" y="1049040"/>
            <a:ext cx="965232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ło kto (oprócz prasy uwierzył w odkryc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ele razy wcześniej odkrycia planet okazywały się w rzeczywistości czymś in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ne były (na początku) mało przekonują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jawiły się prace pokazujące, że taki sam efekt mogą dać puls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neta wielkości Jowisza, krążąca bliżej niż Merkury według naszej wiedzy nie miała prawa istnie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7 UMa i 70 V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3040" y="1049040"/>
            <a:ext cx="965232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ilka miesięcy pózniej Geoffrey Marcy i Paul Butler z University of California donieśli o odkryciu planet u gwiazd 47 UMa i 70 V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ykorzystali oni dokładnie tą samą technik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m też były gorące Jowisz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19320" y="4197240"/>
            <a:ext cx="4149720" cy="29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7 U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03040" y="1049040"/>
            <a:ext cx="965232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rmalna gwiazd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39880" y="1824120"/>
            <a:ext cx="689760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7 U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03040" y="1049040"/>
            <a:ext cx="965232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rmalna plane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739880" y="1824120"/>
            <a:ext cx="689760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7 U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3040" y="1049040"/>
            <a:ext cx="965232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rmalna plane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43040" y="1839960"/>
            <a:ext cx="689760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kład planetarny 47 U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360" y="1033200"/>
            <a:ext cx="985536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 przypadku 47 UMa mamy do czynienia z układem planetarny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8240" y="1609560"/>
            <a:ext cx="9791640" cy="2362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92800" y="3244680"/>
            <a:ext cx="455436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kład planetarny 47 U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360" y="1033200"/>
            <a:ext cx="985536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 przypadku 47 UMa mamy do czynienia z układem planetarny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22360" y="1662120"/>
            <a:ext cx="5427720" cy="54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70 V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360" y="1033200"/>
            <a:ext cx="985536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rmalna gwiaz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10960" y="1824120"/>
            <a:ext cx="4907160" cy="4875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311800" y="1808280"/>
            <a:ext cx="458928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70 V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360" y="1033200"/>
            <a:ext cx="985536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enormalna 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8920" y="1517760"/>
            <a:ext cx="4576680" cy="52959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827600" y="1517760"/>
            <a:ext cx="5121360" cy="52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laczego nie widzimy planet bezpośren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2000" y="1006560"/>
            <a:ext cx="965196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4280" y="1455840"/>
            <a:ext cx="93726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70 V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360" y="1033200"/>
            <a:ext cx="985536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enormalna 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85800" y="1630440"/>
            <a:ext cx="6923160" cy="55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ą całe układy planetar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360" y="1033200"/>
            <a:ext cx="985536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e też niezbyt normaln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114560" y="1663560"/>
            <a:ext cx="8216640" cy="5637240"/>
            <a:chOff x="1114560" y="1663560"/>
            <a:chExt cx="8216640" cy="563724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1114560" y="1663560"/>
              <a:ext cx="8216640" cy="56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727280" y="1663560"/>
              <a:ext cx="611820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1426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           </a:t>
              </a:r>
              <a:r>
                <a:rPr b="1" lang="en-GB" sz="24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Układ </a:t>
              </a:r>
              <a:r>
                <a:rPr b="1" lang="en-GB" sz="2400" spc="-1" strike="noStrike">
                  <a:solidFill>
                    <a:srgbClr val="ffff00"/>
                  </a:solidFill>
                  <a:latin typeface="Symbol"/>
                  <a:ea typeface="HG Mincho Light J"/>
                </a:rPr>
                <a:t>u</a:t>
              </a:r>
              <a:r>
                <a:rPr b="1" lang="en-GB" sz="24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 Androme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38560" y="6664320"/>
              <a:ext cx="611820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1426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           </a:t>
              </a:r>
              <a:r>
                <a:rPr b="1" lang="en-GB" sz="24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Układ Słonecz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01680" y="3330720"/>
              <a:ext cx="1486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825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0.06 j.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7000"/>
                </a:lnSpc>
                <a:spcBef>
                  <a:spcPts val="825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4.5 dn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7000"/>
                </a:lnSpc>
                <a:spcBef>
                  <a:spcPts val="825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0.75 M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46880" y="2979720"/>
              <a:ext cx="14857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825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2.5 j.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7000"/>
                </a:lnSpc>
                <a:spcBef>
                  <a:spcPts val="825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3.5 rok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7000"/>
                </a:lnSpc>
                <a:spcBef>
                  <a:spcPts val="825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4 M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24280" y="2890800"/>
              <a:ext cx="1486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825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0.85 j.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7000"/>
                </a:lnSpc>
                <a:spcBef>
                  <a:spcPts val="825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242 d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7000"/>
                </a:lnSpc>
                <a:spcBef>
                  <a:spcPts val="825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2 M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0600" y="5522760"/>
              <a:ext cx="1486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7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0.39 j.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7000"/>
                </a:lnSpc>
                <a:spcBef>
                  <a:spcPts val="7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89 d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13160" y="5348160"/>
              <a:ext cx="1485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7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0.73 j.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7000"/>
                </a:lnSpc>
                <a:spcBef>
                  <a:spcPts val="7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228 d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98880" y="5348160"/>
              <a:ext cx="1486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7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1 j.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7000"/>
                </a:lnSpc>
                <a:spcBef>
                  <a:spcPts val="7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1 r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0200" y="5522760"/>
              <a:ext cx="1486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7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1.54 j.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7000"/>
                </a:lnSpc>
                <a:spcBef>
                  <a:spcPts val="7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00"/>
                  </a:solidFill>
                  <a:latin typeface="Albertus Extra Bold"/>
                  <a:ea typeface="HG Mincho Light J"/>
                </a:rPr>
                <a:t>1.9 l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ą całe układy planetar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360" y="1033200"/>
            <a:ext cx="9855360" cy="61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e też niezbyt normaln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1000" y="1614600"/>
            <a:ext cx="708336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888920"/>
            <a:ext cx="100807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becnie znamy około 100 planet odkrytych przy pomocy efektu Doppl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360" y="1420560"/>
            <a:ext cx="985536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0360" y="1420560"/>
            <a:ext cx="985536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170080" y="22320"/>
            <a:ext cx="582948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80640"/>
            <a:ext cx="100807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becnie znamy około 100 planet odkrytych przy pomocy efektu Doppl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0360" y="1420560"/>
            <a:ext cx="985536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500120" y="1582560"/>
            <a:ext cx="7218360" cy="561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dkryliśm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360" y="1420560"/>
            <a:ext cx="985536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gromne plan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 eliptycznych orbit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ardzo blisko swoich gwiaz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% gwiazd podobnych do Słońca ma plan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ne układy planetarne są niepodobne do naszego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fekty selek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360" y="1420560"/>
            <a:ext cx="985536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14720" y="1160640"/>
            <a:ext cx="5943600" cy="6019560"/>
            <a:chOff x="2214720" y="1160640"/>
            <a:chExt cx="5943600" cy="601956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2290680" y="1312920"/>
              <a:ext cx="586764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738600" y="1160640"/>
              <a:ext cx="3276720" cy="380880"/>
            </a:xfrm>
            <a:prstGeom prst="roundRect">
              <a:avLst>
                <a:gd name="adj" fmla="val 41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14720" y="2151000"/>
              <a:ext cx="380880" cy="3733920"/>
            </a:xfrm>
            <a:custGeom>
              <a:avLst/>
              <a:gdLst>
                <a:gd name="textAreaLeft" fmla="*/ 360 w 380880"/>
                <a:gd name="textAreaRight" fmla="*/ 380520 w 380880"/>
                <a:gd name="textAreaTop" fmla="*/ 360 h 3733920"/>
                <a:gd name="textAreaBottom" fmla="*/ 3733560 h 3733920"/>
              </a:gdLst>
              <a:ahLst/>
              <a:rect l="textAreaLeft" t="textAreaTop" r="textAreaRight" b="textAreaBottom"/>
              <a:pathLst>
                <a:path w="21600" h="211574">
                  <a:moveTo>
                    <a:pt x="90" y="0"/>
                  </a:moveTo>
                  <a:arcTo wR="90" hR="90" stAng="16200000" swAng="-5400000"/>
                  <a:lnTo>
                    <a:pt x="0" y="211484"/>
                  </a:lnTo>
                  <a:arcTo wR="90" hR="90" stAng="10800000" swAng="-5400000"/>
                  <a:lnTo>
                    <a:pt x="21510" y="211574"/>
                  </a:lnTo>
                  <a:arcTo wR="90" hR="90" stAng="5400000" swAng="-5400000"/>
                  <a:lnTo>
                    <a:pt x="21600" y="90"/>
                  </a:lnTo>
                  <a:arcTo wR="90" hR="9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00520" y="6647040"/>
              <a:ext cx="41907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327920" y="6760440"/>
            <a:ext cx="2327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lbertus Extra Bold"/>
                <a:ea typeface="HG Mincho Light J"/>
              </a:rPr>
              <a:t>Wielka półoś orbity (j.a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1566720" y="3900600"/>
            <a:ext cx="17589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lbertus Extra Bold"/>
                <a:ea typeface="HG Mincho Light J"/>
              </a:rPr>
              <a:t>masa planety (M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Albertus Extra Bold"/>
                <a:ea typeface="HG Mincho Light J"/>
              </a:rPr>
              <a:t>J</a:t>
            </a:r>
            <a:r>
              <a:rPr b="1" lang="en-GB" sz="1400" spc="-1" strike="noStrike">
                <a:solidFill>
                  <a:srgbClr val="000000"/>
                </a:solidFill>
                <a:latin typeface="Albertus Extra Bold"/>
                <a:ea typeface="HG Mincho Light J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ie wszystko to planety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360" y="1420560"/>
            <a:ext cx="985536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wiazda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&gt;0.08 masy Słońca -pali wodó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rązowy karzeł: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0.013 -0.08 masy Słońca -pali de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neta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niżej 0.013 masy Słońca (13 mas Jowisza) -nic nie pa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kreślamy masę z dokładnością do si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693880" y="5602320"/>
            <a:ext cx="5054760" cy="14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ie wszystko to planety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0360" y="1420560"/>
            <a:ext cx="985536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09560" y="1130400"/>
            <a:ext cx="8589960" cy="61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zego więc szukać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2000" y="1006560"/>
            <a:ext cx="965196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emy, że Układ Słoneczny powstał z ogromnej chmury gazu i pył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łode układy planetarne powinny być zanurzone w dysku gazowo -pyłowy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yski mają rozmiary nawet 100 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dgrzane przez protogwiazdę świecą w podczerwien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żemy szukać dysków protoplanetarnyc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ak powstają takie dziwne układ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360" y="1420560"/>
            <a:ext cx="985536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92000" y="1098720"/>
            <a:ext cx="8428320" cy="61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 może to nasz układ jest dziwn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mulacje numeryczne wykonane w ostatnich latach pokazują, że gdy planety są już gotowe w dysku jest jeszcze dużo pyłu i gaz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musi jakoś wpływać na ruch pla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cie tym większe im większa plane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neta może utworzyć w dysku dziurę, a dysk może wpływać na zacieśnianie jej orb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 może to nasz układ jest dziwn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663560" y="903240"/>
            <a:ext cx="665172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 może to nasz układ jest dziwn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608120" y="893880"/>
            <a:ext cx="6867720" cy="64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 może to nasz układ jest dziwn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00040" y="887400"/>
            <a:ext cx="8896320" cy="647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 może to nasz układ jest dziwn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65200" y="871560"/>
            <a:ext cx="8702640" cy="63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 hamuje opadan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7360" y="887400"/>
            <a:ext cx="9155160" cy="64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eszcze jedna metoda -zacmieni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 1999 Marcy &amp; Butler odkryli planetę u gwiazdy HD209458 metodą efektu Dopp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43000" y="2343240"/>
            <a:ext cx="4665600" cy="4841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079960" y="3083040"/>
            <a:ext cx="476892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eszcze jedna metoda -zacmieni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kazało się, że orbita planety HD209458 leży na linii wid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363680" y="1576440"/>
            <a:ext cx="7162920" cy="5740200"/>
            <a:chOff x="1363680" y="1576440"/>
            <a:chExt cx="7162920" cy="5740200"/>
          </a:xfrm>
        </p:grpSpPr>
        <p:grpSp>
          <p:nvGrpSpPr>
            <p:cNvPr id="280" name=""/>
            <p:cNvGrpSpPr/>
            <p:nvPr/>
          </p:nvGrpSpPr>
          <p:grpSpPr>
            <a:xfrm>
              <a:off x="1744560" y="1576440"/>
              <a:ext cx="6705720" cy="5740200"/>
              <a:chOff x="1744560" y="1576440"/>
              <a:chExt cx="6705720" cy="5740200"/>
            </a:xfrm>
          </p:grpSpPr>
          <p:pic>
            <p:nvPicPr>
              <p:cNvPr id="2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0360" y="1576440"/>
                <a:ext cx="5181840" cy="34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7307280" y="1576440"/>
                <a:ext cx="1143000" cy="3581280"/>
              </a:xfrm>
              <a:custGeom>
                <a:avLst/>
                <a:gdLst>
                  <a:gd name="textAreaLeft" fmla="*/ 360 w 1143000"/>
                  <a:gd name="textAreaRight" fmla="*/ 1142640 w 1143000"/>
                  <a:gd name="textAreaTop" fmla="*/ 360 h 3581280"/>
                  <a:gd name="textAreaBottom" fmla="*/ 3580920 h 3581280"/>
                </a:gdLst>
                <a:ahLst/>
                <a:rect l="textAreaLeft" t="textAreaTop" r="textAreaRight" b="textAreaBottom"/>
                <a:pathLst>
                  <a:path w="21600" h="67663">
                    <a:moveTo>
                      <a:pt x="30" y="0"/>
                    </a:moveTo>
                    <a:arcTo wR="30" hR="30" stAng="16200000" swAng="-5400000"/>
                    <a:lnTo>
                      <a:pt x="0" y="67633"/>
                    </a:lnTo>
                    <a:arcTo wR="30" hR="30" stAng="10800000" swAng="-5400000"/>
                    <a:lnTo>
                      <a:pt x="21570" y="67663"/>
                    </a:lnTo>
                    <a:arcTo wR="30" hR="30" stAng="5400000" swAng="-5400000"/>
                    <a:lnTo>
                      <a:pt x="21600" y="30"/>
                    </a:lnTo>
                    <a:arcTo wR="30" hR="3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744560" y="1576440"/>
                <a:ext cx="1143000" cy="3581280"/>
              </a:xfrm>
              <a:custGeom>
                <a:avLst/>
                <a:gdLst>
                  <a:gd name="textAreaLeft" fmla="*/ 360 w 1143000"/>
                  <a:gd name="textAreaRight" fmla="*/ 1142640 w 1143000"/>
                  <a:gd name="textAreaTop" fmla="*/ 360 h 3581280"/>
                  <a:gd name="textAreaBottom" fmla="*/ 3580920 h 3581280"/>
                </a:gdLst>
                <a:ahLst/>
                <a:rect l="textAreaLeft" t="textAreaTop" r="textAreaRight" b="textAreaBottom"/>
                <a:pathLst>
                  <a:path w="21600" h="67663">
                    <a:moveTo>
                      <a:pt x="30" y="0"/>
                    </a:moveTo>
                    <a:arcTo wR="30" hR="30" stAng="16200000" swAng="-5400000"/>
                    <a:lnTo>
                      <a:pt x="0" y="67633"/>
                    </a:lnTo>
                    <a:arcTo wR="30" hR="30" stAng="10800000" swAng="-5400000"/>
                    <a:lnTo>
                      <a:pt x="21570" y="67663"/>
                    </a:lnTo>
                    <a:arcTo wR="30" hR="30" stAng="5400000" swAng="-5400000"/>
                    <a:lnTo>
                      <a:pt x="21600" y="30"/>
                    </a:lnTo>
                    <a:arcTo wR="30" hR="3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1744560" y="4776840"/>
                <a:ext cx="6705720" cy="2539800"/>
                <a:chOff x="1744560" y="4776840"/>
                <a:chExt cx="6705720" cy="2539800"/>
              </a:xfrm>
            </p:grpSpPr>
            <p:pic>
              <p:nvPicPr>
                <p:cNvPr id="2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44560" y="4776840"/>
                  <a:ext cx="6705720" cy="2539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>
                  <a:off x="1744560" y="4776840"/>
                  <a:ext cx="6705720" cy="2539800"/>
                </a:xfrm>
                <a:prstGeom prst="roundRect">
                  <a:avLst>
                    <a:gd name="adj" fmla="val 60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6240600" y="6910560"/>
              <a:ext cx="914400" cy="366480"/>
              <a:chOff x="6240600" y="6910560"/>
              <a:chExt cx="914400" cy="366480"/>
            </a:xfrm>
          </p:grpSpPr>
          <p:sp>
            <p:nvSpPr>
              <p:cNvPr id="288" name=""/>
              <p:cNvSpPr/>
              <p:nvPr/>
            </p:nvSpPr>
            <p:spPr>
              <a:xfrm>
                <a:off x="6240600" y="6910560"/>
                <a:ext cx="91440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40600" y="6910560"/>
                <a:ext cx="9144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063"/>
                  </a:spcBef>
                  <a:tabLst>
                    <a:tab algn="l" pos="0"/>
                    <a:tab algn="l" pos="723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0000"/>
                    </a:solidFill>
                    <a:latin typeface="Arial Unicode MS"/>
                    <a:ea typeface="HG Mincho Light J"/>
                  </a:rPr>
                  <a:t>CZ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363680" y="1576440"/>
              <a:ext cx="380880" cy="3200400"/>
            </a:xfrm>
            <a:custGeom>
              <a:avLst/>
              <a:gdLst>
                <a:gd name="textAreaLeft" fmla="*/ 360 w 380880"/>
                <a:gd name="textAreaRight" fmla="*/ 380520 w 380880"/>
                <a:gd name="textAreaTop" fmla="*/ 360 h 3200400"/>
                <a:gd name="textAreaBottom" fmla="*/ 3200040 h 3200400"/>
              </a:gdLst>
              <a:ahLst/>
              <a:rect l="textAreaLeft" t="textAreaTop" r="textAreaRight" b="textAreaBottom"/>
              <a:pathLst>
                <a:path w="21600" h="181346">
                  <a:moveTo>
                    <a:pt x="90" y="0"/>
                  </a:moveTo>
                  <a:arcTo wR="90" hR="90" stAng="16200000" swAng="-5400000"/>
                  <a:lnTo>
                    <a:pt x="0" y="181256"/>
                  </a:lnTo>
                  <a:arcTo wR="90" hR="90" stAng="10800000" swAng="-5400000"/>
                  <a:lnTo>
                    <a:pt x="21510" y="181346"/>
                  </a:lnTo>
                  <a:arcTo wR="90" hR="90" stAng="5400000" swAng="-5400000"/>
                  <a:lnTo>
                    <a:pt x="21600" y="90"/>
                  </a:lnTo>
                  <a:arcTo wR="90" hR="9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63680" y="4776840"/>
              <a:ext cx="380880" cy="2514600"/>
            </a:xfrm>
            <a:custGeom>
              <a:avLst/>
              <a:gdLst>
                <a:gd name="textAreaLeft" fmla="*/ 360 w 380880"/>
                <a:gd name="textAreaRight" fmla="*/ 380520 w 380880"/>
                <a:gd name="textAreaTop" fmla="*/ 360 h 2514600"/>
                <a:gd name="textAreaBottom" fmla="*/ 2514240 h 2514600"/>
              </a:gdLst>
              <a:ahLst/>
              <a:rect l="textAreaLeft" t="textAreaTop" r="textAreaRight" b="textAreaBottom"/>
              <a:pathLst>
                <a:path w="21600" h="142491">
                  <a:moveTo>
                    <a:pt x="90" y="0"/>
                  </a:moveTo>
                  <a:arcTo wR="90" hR="90" stAng="16200000" swAng="-5400000"/>
                  <a:lnTo>
                    <a:pt x="0" y="142401"/>
                  </a:lnTo>
                  <a:arcTo wR="90" hR="90" stAng="10800000" swAng="-5400000"/>
                  <a:lnTo>
                    <a:pt x="21510" y="142491"/>
                  </a:lnTo>
                  <a:arcTo wR="90" hR="90" stAng="5400000" swAng="-5400000"/>
                  <a:lnTo>
                    <a:pt x="21600" y="90"/>
                  </a:lnTo>
                  <a:arcTo wR="90" hR="9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63680" y="4776840"/>
              <a:ext cx="716292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6200000">
              <a:off x="1004040" y="6353640"/>
              <a:ext cx="1523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 Unicode MS"/>
                  <a:ea typeface="HG Mincho Light J"/>
                </a:rPr>
                <a:t>JASNOŚ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eszcze jedna metoda -zacmieni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 2001 roku zaobserwowano zacmieni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928800" y="1655640"/>
            <a:ext cx="8305560" cy="546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zego więc szukać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2000" y="1006560"/>
            <a:ext cx="965196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4360" y="790560"/>
            <a:ext cx="9093240" cy="66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eszcze jedna metoda -zacmieni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łączenie obu metod pozwala uzyskaćo wiele więcej inform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namy dobrze masę, bo jeśli są zacmienia to i=90 stopni co powoduje, że nie mamy problemów z sin i 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ometria zacmień pozwala określić rozmiary pla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 efektu Dopplera znamy tylko dolne ograniczenie na masę, a nie wiemy nic o zacmieni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436920" y="2773440"/>
            <a:ext cx="336240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a scenę wkracza O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ski zespół OGLE kierowny przez prof. Andrzeja Udalskiego z Obserwatorium Astronomicznego U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181320" y="2001960"/>
            <a:ext cx="5376960" cy="36162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09440" y="2004840"/>
            <a:ext cx="3009960" cy="4286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7748640" y="4681440"/>
            <a:ext cx="2224080" cy="27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a scenę wkracza O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GLE przez 32 dni obserwowało 5 milionów gwiazd z centrum Galaktyk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kupili się na 52 tysiącach obiektów podobnych do Słońca o bardzo dobrej jakości krzywych zmian blask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 przypadku 59 gwiazd udało się odkryć malutkie zacmieni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a scenę wkracza O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085760" y="1044720"/>
            <a:ext cx="77454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a scenę wkracza O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085760" y="1044720"/>
            <a:ext cx="77454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85320"/>
            <a:ext cx="10080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dkrywanie przy pomocy zacmien nie jest pro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0360" y="1049400"/>
            <a:ext cx="985536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68600" y="919080"/>
            <a:ext cx="667836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olscy łowcy pl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0360" y="983880"/>
            <a:ext cx="9855360" cy="60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 początku 2003 roku OGLE TR 56 okazuje się być planetą (Konacki et al, 20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055960" y="2324160"/>
            <a:ext cx="60004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GLE TR 5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0360" y="983880"/>
            <a:ext cx="9855360" cy="60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sa = 0.9 masy Jowis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elka półoś = 0.023 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kres = 1.2119 d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mień = 1.3 promienia Jowis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ęstość = 0.5 g/cm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mperatura = 1900 K (na granicy odparowan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GLE TR 3 -następna plane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0360" y="983880"/>
            <a:ext cx="9855360" cy="60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ne z V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025640" y="1486080"/>
            <a:ext cx="8208720" cy="56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GLE TR 3 -następna plane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360" y="983880"/>
            <a:ext cx="9855360" cy="60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ne z V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719360" y="1808280"/>
            <a:ext cx="8208720" cy="56340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81040" y="1538280"/>
            <a:ext cx="380988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gławica Ori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2000" y="1006560"/>
            <a:ext cx="965196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69840" y="736560"/>
            <a:ext cx="8105760" cy="6537240"/>
            <a:chOff x="969840" y="736560"/>
            <a:chExt cx="8105760" cy="6537240"/>
          </a:xfrm>
        </p:grpSpPr>
        <p:grpSp>
          <p:nvGrpSpPr>
            <p:cNvPr id="59" name=""/>
            <p:cNvGrpSpPr/>
            <p:nvPr/>
          </p:nvGrpSpPr>
          <p:grpSpPr>
            <a:xfrm>
              <a:off x="969840" y="736560"/>
              <a:ext cx="5322960" cy="6537240"/>
              <a:chOff x="969840" y="736560"/>
              <a:chExt cx="5322960" cy="6537240"/>
            </a:xfrm>
          </p:grpSpPr>
          <p:pic>
            <p:nvPicPr>
              <p:cNvPr id="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69840" y="736560"/>
                <a:ext cx="5322960" cy="65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969840" y="736560"/>
                <a:ext cx="5322960" cy="6537240"/>
              </a:xfrm>
              <a:custGeom>
                <a:avLst/>
                <a:gdLst>
                  <a:gd name="textAreaLeft" fmla="*/ 360 w 5322960"/>
                  <a:gd name="textAreaRight" fmla="*/ 5322600 w 5322960"/>
                  <a:gd name="textAreaTop" fmla="*/ 360 h 6537240"/>
                  <a:gd name="textAreaBottom" fmla="*/ 6536880 h 6537240"/>
                </a:gdLst>
                <a:ahLst/>
                <a:rect l="textAreaLeft" t="textAreaTop" r="textAreaRight" b="textAreaBottom"/>
                <a:pathLst>
                  <a:path w="21600" h="26527">
                    <a:moveTo>
                      <a:pt x="6" y="0"/>
                    </a:moveTo>
                    <a:arcTo wR="6" hR="6" stAng="16200000" swAng="-5400000"/>
                    <a:lnTo>
                      <a:pt x="0" y="26521"/>
                    </a:lnTo>
                    <a:arcTo wR="6" hR="6" stAng="10800000" swAng="-5400000"/>
                    <a:lnTo>
                      <a:pt x="21594" y="26527"/>
                    </a:lnTo>
                    <a:arcTo wR="6" hR="6" stAng="5400000" swAng="-5400000"/>
                    <a:lnTo>
                      <a:pt x="21600" y="6"/>
                    </a:lnTo>
                    <a:arcTo wR="6" hR="6" stAng="0" swAng="-5400000"/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388200" y="4262400"/>
              <a:ext cx="2676600" cy="3011400"/>
              <a:chOff x="6388200" y="4262400"/>
              <a:chExt cx="2676600" cy="3011400"/>
            </a:xfrm>
          </p:grpSpPr>
          <p:pic>
            <p:nvPicPr>
              <p:cNvPr id="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88200" y="4262400"/>
                <a:ext cx="2676600" cy="30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6388200" y="4262400"/>
                <a:ext cx="2676600" cy="3011400"/>
              </a:xfrm>
              <a:custGeom>
                <a:avLst/>
                <a:gdLst>
                  <a:gd name="textAreaLeft" fmla="*/ 360 w 2676600"/>
                  <a:gd name="textAreaRight" fmla="*/ 2676240 w 2676600"/>
                  <a:gd name="textAreaTop" fmla="*/ 360 h 3011400"/>
                  <a:gd name="textAreaBottom" fmla="*/ 3011040 h 3011400"/>
                </a:gdLst>
                <a:ahLst/>
                <a:rect l="textAreaLeft" t="textAreaTop" r="textAreaRight" b="textAreaBottom"/>
                <a:pathLst>
                  <a:path w="21600" h="24301">
                    <a:moveTo>
                      <a:pt x="12" y="0"/>
                    </a:moveTo>
                    <a:arcTo wR="12" hR="12" stAng="16200000" swAng="-5400000"/>
                    <a:lnTo>
                      <a:pt x="0" y="24289"/>
                    </a:lnTo>
                    <a:arcTo wR="12" hR="12" stAng="10800000" swAng="-5400000"/>
                    <a:lnTo>
                      <a:pt x="21588" y="24301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541840" y="736560"/>
              <a:ext cx="3533760" cy="3468600"/>
              <a:chOff x="5541840" y="736560"/>
              <a:chExt cx="3533760" cy="3468600"/>
            </a:xfrm>
          </p:grpSpPr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1840" y="736560"/>
                <a:ext cx="3533760" cy="346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5541840" y="736560"/>
                <a:ext cx="3533760" cy="3468600"/>
              </a:xfrm>
              <a:prstGeom prst="roundRect">
                <a:avLst>
                  <a:gd name="adj" fmla="val 42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GLE TR 3 -następna plane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0360" y="983880"/>
            <a:ext cx="9855360" cy="60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sa = 0.5 masy Jowis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elka półoś = 0.023 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kres = 1.1899 d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mień = 1.3 promienia Jowis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ęstość = 0.25 g/cm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mperatura = 2000 K (na granicy odparowan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ożna odkryć atmosferę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0360" y="983880"/>
            <a:ext cx="9855360" cy="60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nie widmowe sod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422360" y="1722600"/>
            <a:ext cx="734544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ożna odkryć atmosferę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0360" y="983880"/>
            <a:ext cx="9855360" cy="60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nie widmowe sod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050840" y="1609560"/>
            <a:ext cx="7958160" cy="56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6072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lanety są odparowywan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936360"/>
            <a:ext cx="1008072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Zacmienia HD209458 w różnych filtrach pokazują różne głębokośc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760" y="1662120"/>
            <a:ext cx="5246640" cy="55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539640" y="1579680"/>
            <a:ext cx="9002880" cy="55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91920" y="339840"/>
            <a:ext cx="86072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lanety są odparowywan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936360"/>
            <a:ext cx="1008072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12920" y="1681200"/>
            <a:ext cx="3790800" cy="54198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568760" y="1662120"/>
            <a:ext cx="5246640" cy="27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laneta o rozmiarze 1.3 promienia Jowisza gubi 10000 ton wodoru na sekundę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tacza ją chmura wodoru o rozmiarach 200 tysięcy k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gławica Ori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86480" y="5302080"/>
            <a:ext cx="44942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50 obiekt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 = 50 - 1000 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 &gt; 0.002 masy Słoń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5280" y="2695680"/>
            <a:ext cx="5435640" cy="477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13320" y="947880"/>
            <a:ext cx="4560840" cy="227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revision>0</cp:revision>
  <dc:subject/>
  <dc:title/>
</cp:coreProperties>
</file>