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37.jpeg" ContentType="image/jpeg"/>
  <Override PartName="/ppt/media/image60.jpeg" ContentType="image/jpeg"/>
  <Override PartName="/ppt/media/image1.jpeg" ContentType="image/jpeg"/>
  <Override PartName="/ppt/media/image36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4.jpeg" ContentType="image/jpeg"/>
  <Override PartName="/ppt/media/image61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71.jpeg" ContentType="image/jpeg"/>
  <Override PartName="/ppt/media/image45.png" ContentType="image/png"/>
  <Override PartName="/ppt/media/image5.jpeg" ContentType="image/jpeg"/>
  <Override PartName="/ppt/media/image62.jpeg" ContentType="image/jpeg"/>
  <Override PartName="/ppt/media/image26.jpeg" ContentType="image/jpeg"/>
  <Override PartName="/ppt/media/image70.jpeg" ContentType="image/jpeg"/>
  <Override PartName="/ppt/media/image35.png" ContentType="image/png"/>
  <Override PartName="/ppt/media/image43.jpeg" ContentType="image/jpeg"/>
  <Override PartName="/ppt/media/image69.jpeg" ContentType="image/jpeg"/>
  <Override PartName="/ppt/media/image3.jpeg" ContentType="image/jpeg"/>
  <Override PartName="/ppt/media/image41.png" ContentType="image/png"/>
  <Override PartName="/ppt/media/image67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6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1.jpeg" ContentType="image/jpeg"/>
  <Override PartName="/ppt/media/image22.png" ContentType="image/png"/>
  <Override PartName="/ppt/media/image24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55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9.png" ContentType="image/png"/>
  <Override PartName="/ppt/media/image30.jpeg" ContentType="image/jpeg"/>
  <Override PartName="/ppt/media/image2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10080625" cy="7559675"/>
  <p:notesSz cx="7772400" cy="10026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9440" y="900000"/>
            <a:ext cx="89532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6600" spc="-1" strike="noStrike">
                <a:solidFill>
                  <a:srgbClr val="b3b300"/>
                </a:solidFill>
                <a:latin typeface="Times New Roman"/>
                <a:ea typeface="HG Mincho Light J"/>
              </a:rPr>
              <a:t>SKALA ODLEGŁOSCI</a:t>
            </a:r>
            <a:br>
              <a:rPr sz="6600"/>
            </a:br>
            <a:br>
              <a:rPr sz="6600"/>
            </a:br>
            <a:r>
              <a:rPr b="1" lang="en-GB" sz="6600" spc="-1" strike="noStrike">
                <a:solidFill>
                  <a:srgbClr val="b3b300"/>
                </a:solidFill>
                <a:latin typeface="Times New Roman"/>
                <a:ea typeface="HG Mincho Light J"/>
              </a:rPr>
              <a:t>WE</a:t>
            </a:r>
            <a:br>
              <a:rPr sz="6600"/>
            </a:br>
            <a:br>
              <a:rPr sz="6600"/>
            </a:br>
            <a:r>
              <a:rPr b="1" lang="en-GB" sz="6600" spc="-1" strike="noStrike">
                <a:solidFill>
                  <a:srgbClr val="b3b300"/>
                </a:solidFill>
                <a:latin typeface="Times New Roman"/>
                <a:ea typeface="HG Mincho Light J"/>
              </a:rPr>
              <a:t>WSZECHSWIEC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5400" y="317520"/>
            <a:ext cx="8607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aralaksa heliocentrycz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63480" y="1689120"/>
            <a:ext cx="877572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5400" y="317520"/>
            <a:ext cx="8607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aralaksa heliocentryczn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7520" y="1530000"/>
            <a:ext cx="9439200" cy="57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Zale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oda czysto geometry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apominamy o ekstynk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ie przejmujemy się żadnym model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ad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nkcjonuje dobrze dla małych odległości (trudno mierzyćtak małe kąty, paralaksa 0.1” to odległość 10 pc = 32.6 r. św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 Ziemi jesteśmy w stanie mierzyćparalaksy gwiazd do kilkudziesięciu parse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Hippar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080" y="864720"/>
            <a:ext cx="9439200" cy="64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sja kosmiczna wystrzelona 8 sierpnia 1989 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ne zbierane przez 37 miesięcy (XI 1989 -III 199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formacje o 118 218 najjaśniejszych gwiazd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rednie błęd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A   0.77 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cl. 0.64 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alaksa 0.97 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chy wlasne 0.8 mas/ro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Hippar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9080" y="2800440"/>
            <a:ext cx="3520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łędy pomiar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444920" y="966960"/>
            <a:ext cx="5445360" cy="63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Hippar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8720" y="1125360"/>
            <a:ext cx="9482040" cy="61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k to było wcześniej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76280" y="2279520"/>
            <a:ext cx="9178920" cy="41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Hippar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8720" y="1125360"/>
            <a:ext cx="9482040" cy="61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uł odległości do Hyiad (m -M) = 3.33 +\-0.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7600" y="1847880"/>
            <a:ext cx="9178920" cy="541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aralaksa statystycz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88720" y="1125360"/>
            <a:ext cx="9482040" cy="61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dy mamy dużo obiektów o podobnej jasności absolutnej i potrafimy wyznaczyć ich ruchy własne oraz prędkości radial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74760" y="3060720"/>
            <a:ext cx="5773680" cy="19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zacmieniowe rozdziel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8720" y="1014480"/>
            <a:ext cx="9482040" cy="63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jąc krzywą zmian blasku gwiazdy zacmieniowej (najlepiej układ rozdzielony z płaskimi denkami w zacmieniach) możemy w łatwy sposób oszacowaćpromienie obu sładników układ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 obserwacji znamy okres obiegu 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namy też jasności układu w maksimum i w obu minim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rzywe prędkości radialnej pozwalają nam wyznaczyćmasy obu składnik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 można wyczytać z krzywej zmian blask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zacmieniowe rozdziel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8720" y="1014480"/>
            <a:ext cx="9482040" cy="63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zy założeniu kołowej orbity gwiazda wiemy, że gwiazda porusza się z prędkością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 czystej geometrii promie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u składników s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stępują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554880" y="1422360"/>
            <a:ext cx="987480" cy="420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0080" y="1982880"/>
            <a:ext cx="4584600" cy="5491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292720" y="5105520"/>
            <a:ext cx="4203720" cy="16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zacmieniowe rozdziel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8720" y="1014480"/>
            <a:ext cx="9482040" cy="63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ółoś a znamy z krzywej prędkości radialn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01600" y="1763640"/>
            <a:ext cx="837720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000" y="2095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Jednostki odległości używane w astronom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 -jednostka astronomiczna = 149.6 mln k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k świetlny = 9.467 * 10^12 km = 63282 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k = 3.26 roku świetlnego = 206 265 AU, zgodnie z definicją jest  to odległość,  z której    1 AU jest widoczna jako jedna sekunda łu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uł odległoś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zacmieniowe rozdziel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8720" y="1014480"/>
            <a:ext cx="9482040" cy="63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ale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Łatwo uzyskać dobrą krzywą zmian blas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wiazd zacmieniowych jest duż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ło włożonej fizyki, dużo czystej geometr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bemy z kalibracją kolor -temper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zeba znaćpoczerwieni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kłady są często słabe i żeby zrobić dobrą krzywą prędkości radialnej trzeba dysponować teleskopem klasy 10-metr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zacmieniowe rozdziel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8720" y="1014480"/>
            <a:ext cx="9482040" cy="63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astosowanie dla gromady kulistej Omega C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st tam układ zacmieniowy OGLEGC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 = 2.4668 d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30200" y="2903400"/>
            <a:ext cx="914256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zacmieniowe rozdziel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8720" y="1014480"/>
            <a:ext cx="9482040" cy="63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la OGLEGC17 zrobiono dobrą fotometrię teleskopami 1.0-m i 2.5 -m, ponadto spektroskopię teleskopem 10-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6240" y="2170080"/>
            <a:ext cx="788040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“red clump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8720" y="1125360"/>
            <a:ext cx="9482040" cy="61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czynski &amp; Stanek (1997) zauważyli, że jasność gwiazd “red clump” (palących hel w jądrze) w filtrze I jest niezależna od kolor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est przez to dobrą świecą standardową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“red clump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5880" y="895320"/>
            <a:ext cx="9482040" cy="61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wiazdy “red clump” w centrum Galakty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60480" y="1587600"/>
            <a:ext cx="6323040" cy="57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“red clump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5880" y="895320"/>
            <a:ext cx="9482040" cy="61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ki sam diagram można zrobić dla pobliskich gwiazd red clump, dla których Hipparcos pomierzył paralak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92240" y="1933560"/>
            <a:ext cx="59752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“red clump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5880" y="895320"/>
            <a:ext cx="9482040" cy="61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ale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wiazdy red clump są ja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wiazd red clump jest duż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pparcos pomierzył z dokładnością lepszą niż 10% paralaksy aż 664 gwiazd red clu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ie wiemy czy i jak wpływa metalicznośćna jasność gwiazd red clu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simy znać poczerwieni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“red clump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5880" y="895320"/>
            <a:ext cx="9482040" cy="61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ierwsze zastosowanie do LMC (Udalski et al 199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-M = 18.08 +\-0.03 +\-0.12 m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MC bliżej o 15%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14560" y="2814480"/>
            <a:ext cx="7718400" cy="41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“red clump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5880" y="895320"/>
            <a:ext cx="9482040" cy="61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licznośćgwiazd z LMC jest 10 -30 razy mniejsza niż ta dla gwiazd z próbki Hipparc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zy metaliczność ma wpływ na jasność gwiazd red clum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ydaje się, że m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zeba pracować w podczerwieni, bo modele pokazują, że tam efekty metaliczności są najmniejsze i jest mniejszy problem z ekstynkcj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serwacje red clump w pasmie K daja moduł odleglości do LMC na poziomie 18.50 ma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szystko wydaje się wiećbyć O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uchy własne grom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17520" y="980640"/>
            <a:ext cx="9439200" cy="62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la bliskich gromad gwiazdowych, dla których ze spektroskopii jesteśmy w stanie określić prędkości radialne, a na niebie zmierzyć ruchy włas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98520" y="2435400"/>
            <a:ext cx="7894800" cy="3365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965240" y="5975280"/>
            <a:ext cx="665028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1000" y="2095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oduł odległ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65080" y="1947960"/>
            <a:ext cx="8342280" cy="44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etoda Baadego -Wesselin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17520" y="980640"/>
            <a:ext cx="9439200" cy="62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 przypadku gwiazd pulsujących zmiany jasności są spowodowane zmianami temperatury i promienia gwiazd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 fotometrii mamy zmiany jasności odpowiadające zmianom strumienia I oraz zmiany koloru odpowiadające zmianom tempera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żemy wyznaczyćstosunek promieni w momentach 1 i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żna wykonać wiele pomiarów dla wielu fa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50800" y="5408640"/>
            <a:ext cx="3995640" cy="1185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584680" y="4964040"/>
            <a:ext cx="4137120" cy="22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etoda Baadego -Wesselin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17520" y="980640"/>
            <a:ext cx="9439200" cy="62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la tej samej gwiazdy uzyskujemy krzywą zmian prędkości radialnej spowodowaną plusacjami (dla cefeid i gwiazd RR Lyr prędkości radialne są na poziomie kilkudziesięciu km/s więc łatwo mierzaln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ybieramy momenty, w których prędkośćradialna jest w miarę stała (krzywa pręd. rad. osiąga maksimum lub minimum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my dwa równania na dwie niewiadome (promieni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1640" y="4459320"/>
            <a:ext cx="4262400" cy="101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etoda Baadego -Wesselin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17520" y="980640"/>
            <a:ext cx="9439200" cy="62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jąc promień w dowolnym momencie i kolor (temperaturę) w tym samym momencie możemy wyznaczyć jasność absolutną obiekt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27040" y="3303720"/>
            <a:ext cx="9169560" cy="14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etoda Baadego -Wesselin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17520" y="980640"/>
            <a:ext cx="9439200" cy="62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Zale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stota (łatwo zrobić fotometrie i spektroskopię bo cefeidy to jasne obiek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ad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pływ pociemnienia brzegow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blemy z transformacją koloru do tempera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ką prędkość radialna tak naprawdę mierzym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 jako miernik odległ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17520" y="980640"/>
            <a:ext cx="9439200" cy="62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 roku 1908 Henrietta Leavitt opublikowała zależność okres -jasność dla 25 cefeid z SM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4440" y="1984320"/>
            <a:ext cx="9539280" cy="3917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06600" y="6307200"/>
            <a:ext cx="8832600" cy="83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 jako miernik odległ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1920" y="1847880"/>
            <a:ext cx="943920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Zależność okres -jasność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Jak wykalibrowaćstałe a i b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84400" y="2959200"/>
            <a:ext cx="761976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 jako miernik odległ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1920" y="1009440"/>
            <a:ext cx="943920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chylenie zależności PL wykalibrowane cefeidami w Obłokach Magellana (dane OGLE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= -2.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23760" y="2092320"/>
            <a:ext cx="8371080" cy="52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 jako miernik odległ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31920" y="1009440"/>
            <a:ext cx="943920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Zakładamy, że znamy odległość do Wielkiego Obłoku Magellana. Moduł odległości wynosi 18.50 mag, co odpowiada 50 kp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Zakładamy stałe poczerwienienie E(B-V)=0.1 ma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Znając jasności obserwowane cefeid w LMC możemy wyznaczyć punkt zerowy relacji 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ie znamy odległości do LMC (modul 18.3 -18.6 mag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czerwienienie jest zmien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MC ma spore rozmi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 jako miernik odległ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31920" y="1009440"/>
            <a:ext cx="943920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alibracja poprzez L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5280" y="1827360"/>
            <a:ext cx="6354720" cy="5607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673520" y="2130480"/>
            <a:ext cx="5275440" cy="14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 jako miernik odległ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1920" y="1139760"/>
            <a:ext cx="9439200" cy="62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pparcos zmierzył paralaksy dla 273 cefeid. Problem w tym, że mało dokładni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żemy spróbować użyć ich wszystkich na ra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zeba to jednak robić bardzo uważnie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1000" y="100080"/>
            <a:ext cx="860724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oduł odległ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0360" y="1414440"/>
            <a:ext cx="9396360" cy="58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 jako miernik odległ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31920" y="936720"/>
            <a:ext cx="943920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żyjemy tzw. paralaksy fotometrycznej i założymy, że nachylenie realacji PL jest znane 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03320" y="2046240"/>
            <a:ext cx="8302680" cy="52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 jako miernik odległ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1920" y="936720"/>
            <a:ext cx="943920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la wszystkich cefeid o znanej paralaks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09720" y="1577880"/>
            <a:ext cx="8302680" cy="56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 jako miernik odległ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1920" y="936720"/>
            <a:ext cx="943920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rawka Lutza -Kell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57240" y="2201760"/>
            <a:ext cx="8302680" cy="38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 jako miernik odległ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31920" y="936720"/>
            <a:ext cx="943920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rawka Lutza -Kell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8880" y="1608120"/>
            <a:ext cx="9147240" cy="55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 jako miernik odległ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31920" y="936720"/>
            <a:ext cx="943920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rawka ze względu na ucięcie jasnoś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03280" y="1546200"/>
            <a:ext cx="9147240" cy="57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 jako miernik odległ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85840" y="1639800"/>
            <a:ext cx="943920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pparcos zmierzył bardzo dokładnie paralaksy gwiazd w gromadzie otwartej Hyady. Jej moduł odległości to 3.33 +\-0.01 ma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żna wziąć te gromady otwarte, w których mamy cefeidy i porównaćjasności ciągu głównego danej gromady z ciągiem głównym Hy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 jako miernik odległ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86840" y="936720"/>
            <a:ext cx="980604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alibracja poprzez gromady otwa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ale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omady otwarte są w miarę blisko więc łatwo o dobrą fotometri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feidy są jasne więc łatwo uzyskać ich krzywe zmian blas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pływ metaliczn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pływ poczerwieni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 jako miernik odległ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86840" y="936720"/>
            <a:ext cx="980604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alibracja poprzez gromady otwa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ale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omady otwarte są w miarę blisko więc łatwo o dobrą fotometri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feidy są jasne więc łatwo uzyskać ich krzywe zmian blas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pływ metaliczn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pływ poczerwieni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 jako miernik odległ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6840" y="936720"/>
            <a:ext cx="980604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alibracja poprzez gromady otwa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zeba zrobić dokładną fotometrię najlepiej czterobarwną (UBV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agramy dwuwskaznikowe (U -B) vs. (B -V) oraz (B -V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s. (V - I) służą do wyznaczenia ekstynkcj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agramy barwa jasność V vs. V -I są lepsze niż V vs. B -V bo mniej na nie wpywa metalicznoś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zeba wyznaczyć spektroskopowo metaliczność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óżnica jasności odczerwienionego ciągu głównego i ciągu głównego Hyad jest względnym modułem odległości (po uwzględnieniu poprawki na metaliczność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 jako miernik odległ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87200" y="1967040"/>
            <a:ext cx="374832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alibracja poprzez gromady otwa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794120" y="984240"/>
            <a:ext cx="5083200" cy="645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6840" y="0"/>
            <a:ext cx="969804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oduł odległości -skala logarytmicz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0280" y="1036800"/>
            <a:ext cx="5353200" cy="3798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05200" y="3506760"/>
            <a:ext cx="5300640" cy="39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 jako miernik odległ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6840" y="936720"/>
            <a:ext cx="980604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dsumowa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25600" y="1623960"/>
            <a:ext cx="9045360" cy="559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 jako miernik odległ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86840" y="936720"/>
            <a:ext cx="980604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eśli założymy, że znamy zależnośćPL dla cefeid to możemy ją wykorzystaćdo mierzenia odległości do galaktyk nawet spoza Grupy Lokalne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jjaśniejsze cefeidy mają jasność absolutną około -5 mag. Zasięg teleskopu HST to 27 mag. Możemy więc obserwować cefeidy w galaktykach o module odległości nawet 32 mag czyli do odległości około 25 M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HST Key Proje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 jako miernik odległ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6840" y="936720"/>
            <a:ext cx="980604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ST Key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63560" y="1608120"/>
            <a:ext cx="66675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1000" y="8748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HST Key Project -wyni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1000" y="858960"/>
            <a:ext cx="980604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33440" y="874800"/>
            <a:ext cx="9283680" cy="65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840" y="87480"/>
            <a:ext cx="9524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RR Lyr jako miernik odległoś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86840" y="936720"/>
            <a:ext cx="980604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wiazdy RR Lyr są najczęściej w gromadach kulist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982880" y="1576440"/>
            <a:ext cx="6264360" cy="57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2840" y="87480"/>
            <a:ext cx="9524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RR Lyr jako miernik odległoś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86840" y="936720"/>
            <a:ext cx="980604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wiazdy RR Lyr są najczęściej w gromadach kulist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982880" y="1576440"/>
            <a:ext cx="6264360" cy="57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2840" y="87480"/>
            <a:ext cx="9524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RR Lyr jako miernik odległoś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86840" y="936720"/>
            <a:ext cx="980604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 ich przypadku kalibrujemy zależnośćjasnośćabsolutna - metalicznoś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81200" y="2295360"/>
            <a:ext cx="833904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2840" y="87480"/>
            <a:ext cx="9524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RR Lyr jako miernik odległoś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86840" y="936720"/>
            <a:ext cx="980604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pparcos zmierzył paralaksę tylko dla 1 gwiazdy RR Ly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Zmierzył też paralaksy dla 22 gwiazd HB (o podobnej jasności co RR Ly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żemy zastosować paralaksę fotometryczn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12800" y="4200480"/>
            <a:ext cx="8640720" cy="9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2840" y="87480"/>
            <a:ext cx="9524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RR Lyr jako miernik odległoś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86840" y="936720"/>
            <a:ext cx="980604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alaksy statystyczne dają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toda kinematyczna dla gromad kulist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14480" y="1781280"/>
            <a:ext cx="8151840" cy="873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119240" y="4513320"/>
            <a:ext cx="80946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2840" y="87480"/>
            <a:ext cx="9524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RR Lyr jako miernik odległoś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9080" y="1265400"/>
            <a:ext cx="980604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toda Baadego -Wesselinka da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66680" y="2435400"/>
            <a:ext cx="8224920" cy="123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6840" y="0"/>
            <a:ext cx="969804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bsporpcja promieniow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0280" y="1036800"/>
            <a:ext cx="9525240" cy="63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2840" y="87480"/>
            <a:ext cx="9524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RR Lyr jako miernik odległoś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9080" y="968040"/>
            <a:ext cx="9806040" cy="59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opasowanie ciągu główn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pparcos zmierzył paralaksy gwiazd ciągu głównego z okolic Słońca. Wiemy więc jak wygląda ciąg główny w najbliższych okolic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żna zmierzyć różnice jasności ciągu głównego z okolic Słońca i tego z gromady kuliste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blem w tym, że gwiazdy z gromad kulistych są około 10 -100 razy mniej metaliczne niż te z okolic Słoń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blemy z ekstynkcją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tóre gwiazdy są tak naprawdę podwój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12840" y="87480"/>
            <a:ext cx="9524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RR Lyr jako miernik odległoś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9080" y="968040"/>
            <a:ext cx="9806040" cy="59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opasowanie ciągu główn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Zależność kolor -metalicznoś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20840" y="2232000"/>
            <a:ext cx="5853240" cy="52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2840" y="87480"/>
            <a:ext cx="9524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RR Lyr jako miernik odległoś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9080" y="968040"/>
            <a:ext cx="9806040" cy="59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opasowanie ciągu główn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170080" y="1592280"/>
            <a:ext cx="5722920" cy="58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2840" y="87480"/>
            <a:ext cx="9524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RR Lyr jako miernik odległoś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9080" y="968040"/>
            <a:ext cx="9806040" cy="59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opasowanie ciągu główn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żna też dopasować ciąg białych karłów z grom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12920" y="1870200"/>
            <a:ext cx="9269280" cy="1019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228680" y="4778280"/>
            <a:ext cx="7624800" cy="887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476520" y="6573960"/>
            <a:ext cx="3144960" cy="7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12840" y="87480"/>
            <a:ext cx="9524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RR Lyr jako miernik odległoś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9080" y="968040"/>
            <a:ext cx="9806040" cy="59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odsumowa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057320" y="1576440"/>
            <a:ext cx="7999200" cy="57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2840" y="87480"/>
            <a:ext cx="9524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RR Lyr jako miernik odległoś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9080" y="968040"/>
            <a:ext cx="9806040" cy="59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Jeszcze jedna sprytna meto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Jasność gwiazdy RR Lyr wydaje się zależeć od okresu zmian blasku i kształtu krzywej zmian blasku opisanej współczynnikami Fourierowskim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181320" y="3403440"/>
            <a:ext cx="4157640" cy="930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332080" y="4917960"/>
            <a:ext cx="5694480" cy="19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2840" y="87480"/>
            <a:ext cx="9524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RR Lyr jako miernik odległoś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440" y="968400"/>
            <a:ext cx="401328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la gromady kulistej Omega Centauri mamy wyznaczoną odległość na podstawie układu zacmieniowe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mega Cen zawiera dużo gwiazd RR Ly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żemy więc wykalibrować dobrze zależnośćjasność absolutna vs. współczynniki Fouri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340160" y="843120"/>
            <a:ext cx="5641920" cy="65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2840" y="87480"/>
            <a:ext cx="9524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RR Lyr jako miernik odległoś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9080" y="968040"/>
            <a:ext cx="9806040" cy="59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ajlepsza relacj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życie jej dla LMC daje moduł odległośc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07880" y="1701720"/>
            <a:ext cx="9383760" cy="719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601640" y="4138560"/>
            <a:ext cx="698688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12840" y="87480"/>
            <a:ext cx="9524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RR Lyr jako miernik odległoś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080" y="968400"/>
            <a:ext cx="980604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Zależnośćjasność-współczynniki Fouri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ale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oda czysto empiry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Łatwo uzyskaćdobre krzywe zmian blasku gwiazd RR Ly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czerwienienie nie wpływa na kształt krzywej i ok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zeba dobrze wykalibrow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ie pracuje do końca dobrze (czegoś braku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zeba mieć dużo obiekt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2840" y="87480"/>
            <a:ext cx="9524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iry jako świece standardow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9080" y="968400"/>
            <a:ext cx="980604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ry z LMC -zależność okres -jasnoś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886040" y="1638360"/>
            <a:ext cx="6877080" cy="55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6840" y="0"/>
            <a:ext cx="969804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oczerwienienie międzygwiazd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0280" y="1036800"/>
            <a:ext cx="9525240" cy="63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2840" y="87480"/>
            <a:ext cx="9524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iry jako świece standardow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9080" y="968400"/>
            <a:ext cx="980604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zed Hipparcosem znaliśmy paralaksę tylko Mi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pparcos dorzucił kolejne 16 gwiaz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pozwoliło skalibrowaćpunkt zerowy relacji 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daje moduł odległości do LM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343160" y="2935440"/>
            <a:ext cx="7400880" cy="1411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525760" y="5761080"/>
            <a:ext cx="514188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2840" y="87480"/>
            <a:ext cx="9524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iry jako świece standardow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9080" y="968400"/>
            <a:ext cx="980604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Zale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ry są bardzo jas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uże amplitudy zmian blasku pozwalają za ich łatwe wykrywanie i uzyskanie dobrych krzyw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ad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ie wiemy jak na nachylenie i punkt zerowy relacji PL wpływa metalicznoś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97000" y="80640"/>
            <a:ext cx="952488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luktuacje jasności powierzchniowej galakty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86840" y="1623600"/>
            <a:ext cx="96980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 bliskiej galaktyce na jeden piksel przypada 100 gwiazd. Fuktuacje jasności powierzchniowej od piksela do piksela są na poziomie 10% (1/sqrt(N)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śli galaktyka jest dużo dalej to na jeden piksel może przypadać 1000 gwiazd. Fluktuacje są wtedy na poziomie 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 większe fluktuacje tym bliższy obiek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oda potrafi pracować do odległości 60 Mp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97000" y="80640"/>
            <a:ext cx="952488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luktuacje jasności powierzchniowej galakty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86840" y="1623600"/>
            <a:ext cx="96980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620720" y="1530360"/>
            <a:ext cx="6966000" cy="52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12840" y="87480"/>
            <a:ext cx="9524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lacja Tully -Fis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9080" y="968400"/>
            <a:ext cx="980604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sność galaktyki jest proporcjionalna do prędkości rotacj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k zmierzyć prędkość rotacj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838680" y="1774800"/>
            <a:ext cx="2625480" cy="9968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968400" y="4106880"/>
            <a:ext cx="83534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2840" y="87480"/>
            <a:ext cx="9524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upernowe typu 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080" y="968400"/>
            <a:ext cx="980604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ch krzywe zawsze wyglądają podb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2600" y="1562040"/>
            <a:ext cx="8910360" cy="57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12840" y="87480"/>
            <a:ext cx="9524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upernowe typu 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9080" y="968400"/>
            <a:ext cx="980604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zeba wziąćtylko te obiekty, dla których kolor w maksimum blasku   -0.25  &lt;  B -V  &lt;  0.25 ma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ted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095560" y="3747960"/>
            <a:ext cx="5976720" cy="27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2840" y="87480"/>
            <a:ext cx="9524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upernowe typu 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9080" y="968400"/>
            <a:ext cx="9806040" cy="63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eśli jasnośćabsolutna wynosi  -19.5 mag, a HST ma zasięg 27 mag, to możemy wykrywaćsupernowe o module odległości 46.5 mag. Uzględniając poczerwienienie moduł odległości 45.5 -46 mag wydaje się realny. Daje to odległość 12 -16 miliardów lat świetln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ek Wszechświata jest obecnie oceniany na 13.4 miliada l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pernowe Ia pozwalają nam mierzyć odległości w największych skalach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12480" y="87480"/>
            <a:ext cx="3825720" cy="63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Odległości -podsumowan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4920" y="843120"/>
            <a:ext cx="9806040" cy="63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065560" y="0"/>
            <a:ext cx="501336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6840" y="0"/>
            <a:ext cx="969804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etalicznoś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4440" y="1155600"/>
            <a:ext cx="9524880" cy="591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1000" y="13032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aralaksa heliocentrycz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6000" y="2698920"/>
            <a:ext cx="9496440" cy="4725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98960" y="938160"/>
            <a:ext cx="5565600" cy="2776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