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480960"/>
            <a:ext cx="860724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ACJE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847960" y="2381400"/>
            <a:ext cx="43099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3440" y="729720"/>
            <a:ext cx="98092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osunki okresów pulsacji radialnych to ważna obserwa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 Peters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03520" y="1905120"/>
            <a:ext cx="6610320" cy="506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13160" y="7045200"/>
            <a:ext cx="4962240" cy="4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440" y="729720"/>
            <a:ext cx="980928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łasności fiz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17560" y="1328760"/>
            <a:ext cx="6610320" cy="59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080" y="1255680"/>
            <a:ext cx="356076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łożenie na diagramie 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86160" y="879480"/>
            <a:ext cx="565812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3080" y="1255680"/>
            <a:ext cx="356076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łożenie na diagramie HR dla gromady kulist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25880" y="865080"/>
            <a:ext cx="56577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9000" y="808200"/>
            <a:ext cx="944892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e zmian blasku (RRab i R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22360" y="1500120"/>
            <a:ext cx="548640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4600" y="1672920"/>
            <a:ext cx="9664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 amplitudy.          Zmiany typu widmow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00" y="2770200"/>
            <a:ext cx="4925880" cy="470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51520" y="2770200"/>
            <a:ext cx="4921200" cy="46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4600" y="1672920"/>
            <a:ext cx="9664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 promienia.          Zmiany prędkości r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000" y="2770200"/>
            <a:ext cx="4925880" cy="470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51520" y="2770200"/>
            <a:ext cx="4921200" cy="46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9664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R Lyr tez są dwumodalne (F + 1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544760"/>
            <a:ext cx="716904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9664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 Petersena dla RR Ly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0040" y="1530360"/>
            <a:ext cx="71694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R Lyr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9664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 Petersena  - własności fiz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0040" y="1530360"/>
            <a:ext cx="71694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2560" y="20160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5400" y="1077840"/>
            <a:ext cx="860760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łasności cef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27360" y="1658880"/>
            <a:ext cx="46321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delta Scu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9664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łasności fiz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47960" y="1530360"/>
            <a:ext cx="620532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delta Scu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325764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łożenie na diagramie 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14960" y="865080"/>
            <a:ext cx="5565600" cy="65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delta Scu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504684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ęsto wzbudzonych wiele modów w tym nieradialne, przez co krzywe są mniej lub bardziej “zaszumion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57840" y="851040"/>
            <a:ext cx="4091040" cy="65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ujące białe karły (ZZ Ce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952020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łasności fiz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3840" y="1630440"/>
            <a:ext cx="5484960" cy="54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ujące białe karły (ZZ Ce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9360" y="909360"/>
            <a:ext cx="373392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łożenie na diagramie 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59240" y="851040"/>
            <a:ext cx="5491080" cy="65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ulsujące białe karły (ZZ Ce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9000" y="909360"/>
            <a:ext cx="504684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ęsto wzbudzonych wiele modów w tym nieradialne, przez co krzywe są mniej lub bardziej nieregular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57840" y="851040"/>
            <a:ext cx="4091040" cy="65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Beta Ceph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9360" y="909720"/>
            <a:ext cx="90583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łasności fiz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98680" y="1616040"/>
            <a:ext cx="50785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Beta Ceph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9360" y="909360"/>
            <a:ext cx="434016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za głównym pasem niestabilności pulsacyjn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esem napędzającym pulsacje jest nieprzezroczystość związana z metal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ęsto pokazują pulsacje nieradial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49920" y="754200"/>
            <a:ext cx="5103720" cy="67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Beta Ceph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9360" y="909360"/>
            <a:ext cx="96076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zykładowa krzywa zmian bla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04840" y="1717560"/>
            <a:ext cx="7813800" cy="50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omicron Ceti (Mi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9360" y="909360"/>
            <a:ext cx="96076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łasności fiz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77920" y="1500120"/>
            <a:ext cx="596124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20160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7840" y="1553760"/>
            <a:ext cx="358920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łożenie na diagramie 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84560" y="139680"/>
            <a:ext cx="5859720" cy="72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omicron Ceti (Mi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9360" y="909360"/>
            <a:ext cx="3935520" cy="63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łożenie na diagramie H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za głównym pasem niestabilności pulsacyjn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cje wzbudzone przez wspólny wpływ nieprzezroczystości związanej z częściową jonizacją H i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44920" y="836640"/>
            <a:ext cx="5454720" cy="65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omicron Ceti (Mi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9360" y="909360"/>
            <a:ext cx="96076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e zmian blasku Miry i R Cyg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6320" y="4473720"/>
            <a:ext cx="8217000" cy="2985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95400" y="1471680"/>
            <a:ext cx="819792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20160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553760"/>
            <a:ext cx="358920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s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epra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u widmow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ędkości r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mi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89640" y="139680"/>
            <a:ext cx="5354640" cy="72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20160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840" y="1553760"/>
            <a:ext cx="358920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 jasności w różnych filtr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139680"/>
            <a:ext cx="5354640" cy="72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840" y="715680"/>
            <a:ext cx="956448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e zmian blasku cefeid w LMC (OG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cje w modzie fundamentaln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cje w pierwszym owerto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2000" y="2016000"/>
            <a:ext cx="323064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6040" y="5305320"/>
            <a:ext cx="3259440" cy="1852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81560" y="5310360"/>
            <a:ext cx="3157200" cy="186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52760" y="2030400"/>
            <a:ext cx="3173400" cy="180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94560" y="5305320"/>
            <a:ext cx="3192480" cy="1866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696000" y="2030400"/>
            <a:ext cx="323388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7840" y="716040"/>
            <a:ext cx="9564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e zmian blasku cefeid w SMC (OG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cje w drugim owerto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0880" y="1962000"/>
            <a:ext cx="676116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840" y="716040"/>
            <a:ext cx="9564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e zmian blasku cefeid w SMC (OG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cje dwumodalne F + 1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50880" y="1962000"/>
            <a:ext cx="676116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8160" y="0"/>
            <a:ext cx="86076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fe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840" y="716040"/>
            <a:ext cx="9564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e zmian blasku cefeid w SMC (OG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lsacje dwumodalne F + 2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50880" y="1962000"/>
            <a:ext cx="6761160" cy="53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