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25.png" ContentType="image/png"/>
  <Override PartName="/ppt/media/image4.jpeg" ContentType="image/jpeg"/>
  <Override PartName="/ppt/media/image40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11000" y="99720"/>
            <a:ext cx="860724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zmienne II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ojedyńc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627280" y="1398600"/>
            <a:ext cx="469116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T Tau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9080" y="850680"/>
            <a:ext cx="965520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typów widmowych of F8 do M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serwuje się je głównie w młodych asocjacjach gwiazdow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widmie są widoczne linie litu (oznaka młodośc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dwyżka promieniowania podczerownego (gwiazdy otoczone pyłem i gazem rozgrzanym do 1000 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biekty przedgwiazdowe przechodzące faze tworzenia trwałej konifoguracji (brak równowagi termicznej i dynamicznej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T Tau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9080" y="851040"/>
            <a:ext cx="9655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zywa zmian blasku (nieregularne zmian w skali od minut do dziesiątków l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82520" y="2525760"/>
            <a:ext cx="8008920" cy="37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T Tau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9080" y="851040"/>
            <a:ext cx="9655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z wyrzucany z gwiazdy XZ Tauri należącej do typu T Ta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0600" y="1876320"/>
            <a:ext cx="9394920" cy="55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FG S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9080" y="851040"/>
            <a:ext cx="9655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po etapie mgławicy planetarnej. Najprawdopodobniej obiekt ewoluuje w kierunku gwiazd R C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59160" y="2886120"/>
            <a:ext cx="534960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FG S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9080" y="851040"/>
            <a:ext cx="9655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zywa zmian blas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41320" y="1746360"/>
            <a:ext cx="840888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asne niebieskie zmienne -LB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080" y="851040"/>
            <a:ext cx="9655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zywa zmian blas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41320" y="1386000"/>
            <a:ext cx="8408880" cy="59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asne niebieskie zmienne -LB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9080" y="850680"/>
            <a:ext cx="965520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ch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zynajmniej 10 tysięcy razy jaśniejsze od Słoń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yp widmowy O, B,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eregularne zmiany blasku o amplitudzie ponad 0.2 ma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tometrycznej zmianności towarzyszy zmienność typu widmow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lne wiatry gwiazdowe (0.0001 -0.00001 masy Słońca na rok 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Jasne niebieskie zmienne -LB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9080" y="1385640"/>
            <a:ext cx="96552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ajprawdopodobniej gwiazda odchodząca od ciągu głównego przebudowująca swoją strukturę (gęstsze jądro, coraz bardziej rozdęta otoczka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Zmiany jasności spowodowane najprawodpodobniej odrzuceniem grupych optycznie warstw (niesionych silnym promieniowaniem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9080" y="865080"/>
            <a:ext cx="965520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y gwiazdy mogą pulsować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92280" y="1717560"/>
            <a:ext cx="8716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9080" y="865080"/>
            <a:ext cx="965520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y gwiazdy mogą pulsować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2280" y="1717560"/>
            <a:ext cx="8716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1160" y="193680"/>
            <a:ext cx="97995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aktywne chromosferycz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39440" y="1486080"/>
            <a:ext cx="8607240" cy="57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ypy widmowe K i M (klasa jasności 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lamy na powierzchni spowodowane silnym polem magnetycznym i konwekcj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otacja + zmiany kształtu i położenia plam dają zmiany blas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9080" y="865080"/>
            <a:ext cx="965520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y gwiazdy mogą pulsować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2280" y="1717560"/>
            <a:ext cx="87166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9080" y="865080"/>
            <a:ext cx="965520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y gwiazdy mogą pulsować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2280" y="1442880"/>
            <a:ext cx="8716680" cy="59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9080" y="865080"/>
            <a:ext cx="965520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y gwiazdy mogą pulsować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2280" y="1774800"/>
            <a:ext cx="8716680" cy="52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9080" y="865080"/>
            <a:ext cx="965520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y gwiazdy mogą pulsować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92280" y="1774800"/>
            <a:ext cx="8716680" cy="52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9080" y="865080"/>
            <a:ext cx="965520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y gwiazdy mogą pulsować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20720" y="1471680"/>
            <a:ext cx="8717040" cy="58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9080" y="865080"/>
            <a:ext cx="965520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zy gwiazdy mogą pulsować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6280" y="1644480"/>
            <a:ext cx="9107280" cy="55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9080" y="865080"/>
            <a:ext cx="965520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 napędza pulsacj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chanizm, który byłby zdolny podtrzymaćpulsacje musi, jak każda maszyna cieplna, doprowadzać energię do materii w fazie zagęszczenia, tak aby mogła być zamieniona na pracę w fazie rozpręża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gwiezdzie zródłem energii stojącym do dyspozycji jest strumień przepływającego przez nią promieniowa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teria może z niego czerpaćtylko za pośrednictwem procesów związanych z nieprzezroczystości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echanizm nieprzezroczystośc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9080" y="865080"/>
            <a:ext cx="965520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chanizm nieprzezroczystosci kap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38160" y="1514520"/>
            <a:ext cx="8299440" cy="58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9080" y="865080"/>
            <a:ext cx="9655200" cy="61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chanizm nieprzezroczystosci kap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5400" y="1601640"/>
            <a:ext cx="8299440" cy="565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9080" y="764640"/>
            <a:ext cx="9655200" cy="684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chanizm nieprzezroczystosci kap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fazie kontrakcji temperatura wzrasta, nieprzezroczystość w warstwach (1) i (3) maleje, więc promieniowanie lepiej przez nie przepływ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warstwie (2) jest na odwrót: nieprzezroczystość wzrasta ze wzrostem tempera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umień, który z łatwością przepłynął przez (1) zostaje uwięziony w (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fazie kontrakcji warstwa (2) zbiera więc energi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dwrotnie będzie w fazie ekspansji - mamy silni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6880" y="1368360"/>
            <a:ext cx="4024080" cy="6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280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aktywne chromosferycz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68160" y="808200"/>
            <a:ext cx="8607600" cy="57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Krzywa zmian blasku gwiazdy BY 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65400" y="1486080"/>
            <a:ext cx="5848200" cy="57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96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 -pulsacje radi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5880" y="1023840"/>
            <a:ext cx="965484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d fundamental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ierwszy ower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1600" y="1577880"/>
            <a:ext cx="9720360" cy="2347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2760" y="5025960"/>
            <a:ext cx="965844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400" y="-360"/>
            <a:ext cx="100011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 -pulsacje radi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5880" y="1023480"/>
            <a:ext cx="9654840" cy="23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6560" y="1679400"/>
            <a:ext cx="4065840" cy="405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11880" y="1689120"/>
            <a:ext cx="405612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7400" y="-360"/>
            <a:ext cx="100011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 -pulsacje nieradi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5880" y="1023480"/>
            <a:ext cx="9654840" cy="23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0960" y="942840"/>
            <a:ext cx="9660240" cy="64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400" y="-360"/>
            <a:ext cx="100011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 -pulsacje nieradi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5880" y="1023480"/>
            <a:ext cx="9654840" cy="23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0960" y="942840"/>
            <a:ext cx="9660240" cy="64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400" y="-360"/>
            <a:ext cx="100011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 -pulsacje nieradi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5880" y="1023480"/>
            <a:ext cx="9654840" cy="23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33560" y="923760"/>
            <a:ext cx="6016680" cy="632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400" y="-360"/>
            <a:ext cx="100011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 -pulsacje nieradi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5880" y="1023840"/>
            <a:ext cx="9654840" cy="62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1  m= -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1 m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1 m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77880" y="914400"/>
            <a:ext cx="2130480" cy="1971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58800" y="3006720"/>
            <a:ext cx="2151360" cy="2073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558800" y="5224320"/>
            <a:ext cx="2165400" cy="2108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81960" y="3021120"/>
            <a:ext cx="2063520" cy="2044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688080" y="885960"/>
            <a:ext cx="2059200" cy="20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6700680" y="5238720"/>
            <a:ext cx="204480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400" y="-360"/>
            <a:ext cx="100011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 -pulsacje nieradi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5880" y="1023840"/>
            <a:ext cx="9654840" cy="62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2  m= -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2 m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2 m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77880" y="914400"/>
            <a:ext cx="2130480" cy="1971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58800" y="3006720"/>
            <a:ext cx="215136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558800" y="5224320"/>
            <a:ext cx="2165400" cy="2108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681960" y="3021120"/>
            <a:ext cx="2063520" cy="2044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688080" y="885960"/>
            <a:ext cx="2059200" cy="201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700680" y="5238720"/>
            <a:ext cx="204480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7400" y="-360"/>
            <a:ext cx="100011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 -pulsacje nieradi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5880" y="1023840"/>
            <a:ext cx="9654840" cy="62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3  m= -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3 m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3 m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77880" y="914400"/>
            <a:ext cx="2130480" cy="197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558800" y="3006720"/>
            <a:ext cx="2151360" cy="2073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558800" y="5224320"/>
            <a:ext cx="2165400" cy="2108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681960" y="3021120"/>
            <a:ext cx="2063520" cy="2044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688080" y="885960"/>
            <a:ext cx="205920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700680" y="5238720"/>
            <a:ext cx="204480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400" y="-360"/>
            <a:ext cx="100011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pulsujące -pulsacje nieradi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5880" y="1023840"/>
            <a:ext cx="9654840" cy="62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4  m= -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4 m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=4 m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77880" y="914400"/>
            <a:ext cx="2130480" cy="197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558800" y="3006720"/>
            <a:ext cx="2151360" cy="2073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58800" y="5224320"/>
            <a:ext cx="2165400" cy="2108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681960" y="3021120"/>
            <a:ext cx="2063520" cy="2044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688080" y="885960"/>
            <a:ext cx="2059200" cy="2016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0680" y="5238720"/>
            <a:ext cx="204480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280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ozbłyskowe UV Ce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6840" y="952200"/>
            <a:ext cx="96980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wiazdy póznych typów widmowych (K0 -M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ozbłyski, w których w ciągu kilku sekund -minut jasność wzrastra o 0.1 -5 ma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ozbłyskow w dziedzinie optycznej towarzyszą błyski w UV, X i rad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biekty o małych masach (0.1 masy Słońca) ciągle na etapie kontrakcji na ciąg głów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ałkowicie kowektywne: aktywność chromosferczna + silne rozbły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280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rozbłyskowe UV Ce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8200" y="895320"/>
            <a:ext cx="376704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Krzywa zmian blasku: krótki wyb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9360" y="932040"/>
            <a:ext cx="6143760" cy="63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280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 Coronae Borea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0040" y="895320"/>
            <a:ext cx="965520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Krzywa zmian blasku R Cr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3520" y="1890720"/>
            <a:ext cx="952020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280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 Coronae Borea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0040" y="895320"/>
            <a:ext cx="965520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Krzywa zmian blasku RY Sg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9120" y="1471680"/>
            <a:ext cx="9520200" cy="58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280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 Coronae Borea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0040" y="1875960"/>
            <a:ext cx="96552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chy widmowe olbrzymów i nadolbrzymów o typach późniejszych niż F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ardzo słabe linie wodoru w widm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dwyższona zawartośćwęg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2800" y="-360"/>
            <a:ext cx="9799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wiazdy typu R Coronae Borea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080" y="851040"/>
            <a:ext cx="9655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miany blasku spowodowane wytorzeniem się cząstek pyłu węglowego w górnych warstwach atmosfery i wzrost nieprzezroczystoś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84720" y="2871720"/>
            <a:ext cx="3455640" cy="344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revision>0</cp:revision>
  <dc:subject/>
  <dc:title/>
</cp:coreProperties>
</file>