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20.jpeg" ContentType="image/jpeg"/>
  <Override PartName="/ppt/media/image12.png" ContentType="image/png"/>
  <Override PartName="/ppt/media/image31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40.png" ContentType="image/png"/>
  <Override PartName="/ppt/media/image36.jpeg" ContentType="image/jpeg"/>
  <Override PartName="/ppt/media/image41.jpeg" ContentType="image/jpeg"/>
  <Override PartName="/ppt/media/image3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image42.jpeg" ContentType="image/jpeg"/>
  <Override PartName="/ppt/media/image19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1412"/>
              </a:spcAft>
              <a:buClr>
                <a:srgbClr val="000000"/>
              </a:buClr>
              <a:buSzPct val="75000"/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Times New Roman"/>
              </a:rPr>
              <a:t>Gwiazdy zmien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1627200" y="2035080"/>
            <a:ext cx="66834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5320" y="85680"/>
            <a:ext cx="8606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kontaktowe -EW (W UM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850680"/>
            <a:ext cx="100789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zywa zmian blasku układu kontaktowego W 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4600" y="1703520"/>
            <a:ext cx="9223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5320" y="85680"/>
            <a:ext cx="8606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 UMa - schemat układ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850680"/>
            <a:ext cx="100789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ład nadkontaktowy - gorący towarzys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7360" y="1530360"/>
            <a:ext cx="92232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5320" y="85680"/>
            <a:ext cx="8606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Zmienne elipsoid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850680"/>
            <a:ext cx="100789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e ma zaćmień ale są zmiany blask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06640" y="1558800"/>
            <a:ext cx="6103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85680"/>
            <a:ext cx="100789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Układy zacmieniowe -różnorodność zachowa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850680"/>
            <a:ext cx="100789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wiazdy zacmieniowe w gromadzie kulistej Omega 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0200" y="1442880"/>
            <a:ext cx="922356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85680"/>
            <a:ext cx="100789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zacmieniowe -podsumow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850680"/>
            <a:ext cx="100789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70080" y="938160"/>
            <a:ext cx="745956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107640"/>
            <a:ext cx="860580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kataklizmicz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341000"/>
            <a:ext cx="860580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kłady podwójne, w których jednym ze składników jest jest gwiazda znajdująca się w końcowym etapie ewolucji (biały karzeł, gwiazda neutronowa, czarna dziura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szystkie te obiekty mają duże przyspeszenia grawitacyjne na powierzch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Jaką energię mamy do dyspozyji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85680"/>
            <a:ext cx="1007892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kataklizmicz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850680"/>
            <a:ext cx="100789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6640" y="938160"/>
            <a:ext cx="832644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204840"/>
            <a:ext cx="10078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kataklizmiczne to układy półrozdziel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850680"/>
            <a:ext cx="100789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08200" y="1890720"/>
            <a:ext cx="832644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1007892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kataklizmiczne - dysk akrecyj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87200"/>
            <a:ext cx="1007892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47840" y="923760"/>
            <a:ext cx="90756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1007892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lasycz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3120" y="1327320"/>
            <a:ext cx="9863280" cy="56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0840" y="824040"/>
            <a:ext cx="5818320" cy="3141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065480" y="3922560"/>
            <a:ext cx="57801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1000" y="274320"/>
            <a:ext cx="86058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zacmieni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04760" y="1360440"/>
            <a:ext cx="78994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58400"/>
            <a:ext cx="1007892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lasycz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3120" y="1327320"/>
            <a:ext cx="9863280" cy="56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21040" y="879480"/>
            <a:ext cx="61894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201240"/>
            <a:ext cx="1007892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lasyczne - energetyka wybuc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414080"/>
            <a:ext cx="9869400" cy="58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zrost jasności o 7-16 mag. (600 -2 mln razy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wa traci około 1/100000 swojej masy i emituje energię rzędu 10^38 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ka ilość energii może być uzyskana tylko dzięki reakcjom termojądrowy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ybuchowe zapalenie zdegenerowanego gazu zebranego na powierzchni białego karł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es ten sam co w przypadku błysku heloweg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01240"/>
            <a:ext cx="1007892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lasyczne - Nowa Cygni 19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5037120"/>
            <a:ext cx="9869400" cy="22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8640" y="1168560"/>
            <a:ext cx="8491680" cy="59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01240"/>
            <a:ext cx="10078920" cy="6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lasyczne - Nowa Cygni 19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5037120"/>
            <a:ext cx="9869400" cy="22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8640" y="1168560"/>
            <a:ext cx="8491680" cy="59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8160" y="144000"/>
            <a:ext cx="860616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3120" y="1054080"/>
            <a:ext cx="9509040" cy="61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ótkie okresy orbitalne (godzin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ały karzeł o małym polu magnetycznym i masie około 0.6 masy Słoń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ysk dominującym  zródłem światł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kładnik wtórny to małomasywna gwiazda ciągu głów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ewielkie rozmiary ukł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iekty wybuchają co kilka dni - kiladziesiąt l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mplituda wybuchu od 3 do 9 mag (jasność wzrasta od 16 do 4000 raz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9360" y="0"/>
            <a:ext cx="86058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9440" y="1428840"/>
            <a:ext cx="8605800" cy="54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ztery podtyp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 Geminorum lub SS Cyg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Z Cameloparda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 U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Zmienne nowopodobne (UX U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6520" y="115560"/>
            <a:ext cx="86058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  - U 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6840" y="1037880"/>
            <a:ext cx="9682200" cy="58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Krzywe zmian blasku (SS Cy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4120" y="1712880"/>
            <a:ext cx="8508960" cy="271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63480" y="4530600"/>
            <a:ext cx="84852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6520" y="115560"/>
            <a:ext cx="86058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  - U 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6840" y="1037880"/>
            <a:ext cx="9682200" cy="58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Krzywe zmian blasku (SS Cyg): wizualna, UV i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12880" y="1770120"/>
            <a:ext cx="481824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6520" y="115560"/>
            <a:ext cx="86058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  - U 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6840" y="1037880"/>
            <a:ext cx="9682200" cy="58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Krzywe zmian blasku: krotkoflowa dla U G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kres: 4 godz. 14 min. 45 sek.  (Krzemiński 19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4680" y="2496960"/>
            <a:ext cx="9494640" cy="47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6520" y="115560"/>
            <a:ext cx="86058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  - U 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6840" y="1037880"/>
            <a:ext cx="9682200" cy="58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yjaśnienie zaproponowane przez J. Sma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12920" y="1862280"/>
            <a:ext cx="75754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000" y="274320"/>
            <a:ext cx="860580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ozdzielone -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46000" y="1987560"/>
            <a:ext cx="857736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6520" y="115560"/>
            <a:ext cx="86058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  - U G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2760" y="1530000"/>
            <a:ext cx="94662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kąd biorą się wybuch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laczego są dwa rodzaje wybuchó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laczego w wybuchu nie widać zacmień i zmian z okresem orbitalny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4120" y="260280"/>
            <a:ext cx="85960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:  model Smaka -Osaki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7160" y="1717200"/>
            <a:ext cx="94662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kąd biorą się wybuch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minimum dysk lekko zwiększa swoje rozmiary i temperatur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zy T=50 000 K przebudowa struktury dysku ze względu na przejście jonizację wod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jawia się tzw. niestabilność termicz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Zrzucenie materii na białego karła owocuje wzrostem jasności (wybuch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4120" y="260280"/>
            <a:ext cx="85960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:  model Smaka -Osaki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7160" y="2293920"/>
            <a:ext cx="946620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laczego są dwa rodzaje wybuchó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ybuchy in -out oraz out -in w zależności od tego gdzie pojawi się niestabilnoś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4120" y="260280"/>
            <a:ext cx="85960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:  model Smaka -Osaki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17160" y="2293920"/>
            <a:ext cx="946620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laczego w wychuchu nie widać zacmień i zmian z okresem orbitalny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wybuchu dysk jest bardzo gorący i “gorąca plama” nie wyróżnia się tak jak w minim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67800" y="331920"/>
            <a:ext cx="859644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:  Z C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4320" y="1386000"/>
            <a:ext cx="946620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ługoskalowa krzywa zmian blask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9720" y="2511360"/>
            <a:ext cx="925524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:  Z C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5880" y="836640"/>
            <a:ext cx="946620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laczego wybuchy raz są a raz nie 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empo akrecji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77880" y="2309760"/>
            <a:ext cx="66564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:  SU U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5880" y="966960"/>
            <a:ext cx="946620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ługoskalowa krzywa zmian blasku: wybuchy i superwybu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2200" y="2063880"/>
            <a:ext cx="94330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:  SU U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5880" y="966960"/>
            <a:ext cx="946620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 widać w superwybuch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2200" y="1673280"/>
            <a:ext cx="94330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:  SU U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5880" y="966960"/>
            <a:ext cx="946620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 widać w superwybuch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upergarby (ang. superhumps) o okresie o kilka % większym od orbitalne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9360" y="3146400"/>
            <a:ext cx="943308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45880" y="966960"/>
            <a:ext cx="946620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2200" y="158760"/>
            <a:ext cx="9433080" cy="72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000" y="99720"/>
            <a:ext cx="860580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ozdzielone -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39400"/>
            <a:ext cx="9032760" cy="60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kursorem tej grupy zmiennych była jasna gwiazda o nazwie Algol (Beta Perseusz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gol został odkryty w 1667 roku przez Gemiano Montan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est doskonale widoczny gołym okiem i w okresie 68.75 godziny zmienia swoją jasność od 2.2 do 3.4 magnitu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 rzeczywistości nie jest układem rozdzielonym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:  SU U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966960"/>
            <a:ext cx="1007892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wykłe wybuchy jak u U Gem (niestabilność termicz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zyczyną superwybuchu jest niestabilność pływowa (duży dysk wchodzi w rezonans 3:1 i pojawia się silna precesj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ergarby to złożenie precesji dysku i okresu orbitalneg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14480" y="4734000"/>
            <a:ext cx="46324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 karłowate:  podsumow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966960"/>
            <a:ext cx="1007892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47840" y="865080"/>
            <a:ext cx="9047160" cy="637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: polary (AM H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66960"/>
            <a:ext cx="1007892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rdzo silne pole magnetyczne białego karł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ie ma dysku są kolumny akrecyj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łna synchronizacja okresu orbitalnego i okres rotacji białego karł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ary też wybuchają jak nowe klasycz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dkryte przez Polaków (Krzemiński i Serkowski 196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70200" y="3795840"/>
            <a:ext cx="46324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: polary (AM H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966960"/>
            <a:ext cx="1007892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rzywa zmian blasku (różnice w tempie akrecji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4440" y="2583000"/>
            <a:ext cx="95965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Nowe: polary pośrednie (DQ H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053720"/>
            <a:ext cx="10078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lne ale nie bardzo silne pole magnetycz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olumny akrecyj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ak synchronizac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lary pośrednie też wybuchają jako now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41280" y="3767040"/>
            <a:ext cx="763128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upernowe typu 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053720"/>
            <a:ext cx="100789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jaśnienie o prawie 20 mag (100 mln razy) w ciągu kilku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wolny spadek w ciągu kiluset d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sność absolutna w maksimum w pasmie V wynosi -19.2 ma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0960" y="2886120"/>
            <a:ext cx="86724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upernowe typu 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88720" y="1053720"/>
            <a:ext cx="95230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ak linii wodoru w wid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a sama jasność w maksimum sugeruje podobny mechaniz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kład podwójny zawierający białego krała o masie bliskiej masie Chandrasekhara (1.44 masy Słońca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1360" y="433440"/>
            <a:ext cx="859608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upernowe typu Ia i II: porówna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8720" y="1053720"/>
            <a:ext cx="952308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536840"/>
            <a:ext cx="1007892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upernowe typu 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0320" y="1456920"/>
            <a:ext cx="5092560" cy="58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Źródła energ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apalenie się zdegenerowanego jądra węglowo -tlen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5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zpady promieniotwórcze pierwiastków wyprodukowanych w wybuchu (nikel i koba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8800" y="966960"/>
            <a:ext cx="4554360" cy="64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Gwiazdy symbiotyczne (CH Cygn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960" y="1054080"/>
            <a:ext cx="9754920" cy="62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kłady złożone z białego karła i czerwonego olbrzyma zanużone w mgławicy (wiatr gwiazdowy z olbrzy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60520" y="2279520"/>
            <a:ext cx="705312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1000" y="99720"/>
            <a:ext cx="860580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ozdzielone -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139400"/>
            <a:ext cx="9032760" cy="60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8920" y="1255680"/>
            <a:ext cx="92232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entgenowsk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960" y="850680"/>
            <a:ext cx="9769320" cy="64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amiast białego karła mamy teraz gwiazdę neutronową lub czarnądziurę. Dużo więcej energii do dyspozycji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82600" y="1832040"/>
            <a:ext cx="792180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entgenowsk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960" y="850680"/>
            <a:ext cx="9769320" cy="64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Zamiast białego karła mamy teraz gwiazdę neutronową lub czarnądziurę. Dużo więcej energii do dyspozycji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82600" y="2035080"/>
            <a:ext cx="792180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entgenowsk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960" y="1023480"/>
            <a:ext cx="976932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Klasyfikacj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urstery rentgenowsk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asywne podwójne układy rentgenowskie (MXR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spcAft>
                <a:spcPts val="1412"/>
              </a:spcAft>
              <a:buClr>
                <a:srgbClr val="000000"/>
              </a:buClr>
              <a:buSzPct val="40000"/>
              <a:buFont typeface="StarBats" charset="2"/>
              <a:buChar char="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Małomasywne podwójne układy rentgenowskie (LMX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entgenowskie: burs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960" y="1111320"/>
            <a:ext cx="9769320" cy="62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ybuchy rengenowskie, w których jasność wzrasta 5-10 razy w ciągu ok. 1 sekun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kłady złożone z chłodnego karła ciągu głównego i gwiazdy neutronowej o słabym polu mag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a powieszchni gwiazdy neutronowej w otoczce zachodzą rekakcje przemiany wodoru w h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 miarę pogrubiania się warstwy zapala się hel powodując błysk rentgenow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entgenowskie: burs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960" y="1111320"/>
            <a:ext cx="9769320" cy="62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ybuchy rengenowskie, w których jasność wzrasta 5-10 razy w ciągu ok. 1 sekun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55840" y="2433600"/>
            <a:ext cx="71038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entgenowskie: MX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960" y="1111320"/>
            <a:ext cx="9769320" cy="62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kłady składające się z dużej i jasnej gwiazdy typu O i B i gwiazdy neutronowej lub czarnej dzi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Jasność w dziedzinie optycznej niewiele mniejsza niż w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Źródłem energii akrecja spowodowana wypełnieniem powierzchni Roche'a lub wiatrem gwiazdowy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67800" y="115560"/>
            <a:ext cx="85964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entgenowskie: LMX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960" y="1111320"/>
            <a:ext cx="9769320" cy="62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kłady składające się z małomasywnej gwiazdy póznego typu widmowego i gwiazdy neutronowej lub czarnej dzi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Jasność w dziedzinie optycznej dużo mniejsza niż w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Źródłem energii głównie dysk akrecyjny świecący jasno w 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5680" y="144000"/>
            <a:ext cx="98553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entgenowskie: MXRB i LMX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960" y="1111320"/>
            <a:ext cx="9769320" cy="62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09680" y="1125360"/>
            <a:ext cx="911376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680" y="144000"/>
            <a:ext cx="98553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entgenowskie: MXRB i LMX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960" y="1111320"/>
            <a:ext cx="9769320" cy="62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krecja napędzana wiatrem gwiazdowy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63760" y="2021040"/>
            <a:ext cx="354816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680" y="144000"/>
            <a:ext cx="98553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typu RS Canum Venatico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960" y="1111320"/>
            <a:ext cx="9769320" cy="62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kłady podwójne składające się z dwóch normalnych gwiaz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kresy orbitalne 1-20 dni (układy rozdzielo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kłady stare (synchronizacja okresów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 powoduje szybką rotacje gwiazd i dużą aktywność chromosferyczną (plamy, rozbły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5320" y="85680"/>
            <a:ext cx="8606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rozdzielone -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1560" y="850680"/>
            <a:ext cx="913428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prawdę rozdzielony układ WA 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7120" y="1486080"/>
            <a:ext cx="92235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5680" y="144000"/>
            <a:ext cx="98553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typu RS Canum Venatico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960" y="1111320"/>
            <a:ext cx="9769320" cy="62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Krzywa zmian blasku (zacmienia + fala 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9520" y="2155680"/>
            <a:ext cx="94726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5320" y="85680"/>
            <a:ext cx="8606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półrozdzielone -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1560" y="850680"/>
            <a:ext cx="913428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01760" y="1587600"/>
            <a:ext cx="92232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5320" y="85680"/>
            <a:ext cx="8606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półrozdzielone -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850680"/>
            <a:ext cx="100789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rzywa zmian blasku półrozdzielonego układu Beta Ly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4600" y="1703520"/>
            <a:ext cx="9223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5320" y="85680"/>
            <a:ext cx="86061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kłady kontaktowe -EW (W UM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850680"/>
            <a:ext cx="100789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 algn="ctr"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0200" y="1486080"/>
            <a:ext cx="9223560" cy="52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6:28:36Z</dcterms:created>
  <dc:creator/>
  <dc:description/>
  <dc:language>en-US</dc:language>
  <cp:lastModifiedBy> </cp:lastModifiedBy>
  <cp:revision>0</cp:revision>
  <dc:subject/>
  <dc:title/>
</cp:coreProperties>
</file>