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7.png" ContentType="image/png"/>
  <Override PartName="/ppt/media/image54.jpeg" ContentType="image/jpeg"/>
  <Override PartName="/ppt/media/image33.png" ContentType="image/png"/>
  <Override PartName="/ppt/media/image53.png" ContentType="image/png"/>
  <Override PartName="/ppt/media/image56.jpeg" ContentType="image/jpeg"/>
  <Override PartName="/ppt/media/image52.jpeg" ContentType="image/jpeg"/>
  <Override PartName="/ppt/media/image1.png" ContentType="image/png"/>
  <Override PartName="/ppt/media/image49.png" ContentType="image/png"/>
  <Override PartName="/ppt/media/image48.png" ContentType="image/png"/>
  <Override PartName="/ppt/media/image45.jpeg" ContentType="image/jpeg"/>
  <Override PartName="/ppt/media/image47.jpeg" ContentType="image/jpeg"/>
  <Override PartName="/ppt/media/image68.png" ContentType="image/png"/>
  <Override PartName="/ppt/media/image44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18.jpeg" ContentType="image/jpeg"/>
  <Override PartName="/ppt/media/image42.jpeg" ContentType="image/jpeg"/>
  <Override PartName="/ppt/media/image19.jpeg" ContentType="image/jpeg"/>
  <Override PartName="/ppt/media/image25.png" ContentType="image/png"/>
  <Override PartName="/ppt/media/image20.jpeg" ContentType="image/jpeg"/>
  <Override PartName="/ppt/media/image24.jpeg" ContentType="image/jpeg"/>
  <Override PartName="/ppt/media/image29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79.jpeg" ContentType="image/jpeg"/>
  <Override PartName="/ppt/media/image70.png" ContentType="image/png"/>
  <Override PartName="/ppt/media/image78.png" ContentType="image/png"/>
  <Override PartName="/ppt/media/image77.png" ContentType="image/png"/>
  <Override PartName="/ppt/media/image59.png" ContentType="image/png"/>
  <Override PartName="/ppt/media/image66.jpeg" ContentType="image/jpeg"/>
  <Override PartName="/ppt/media/image76.png" ContentType="image/png"/>
  <Override PartName="/ppt/media/image64.png" ContentType="image/png"/>
  <Override PartName="/ppt/media/image15.jpeg" ContentType="image/jpeg"/>
  <Override PartName="/ppt/media/image74.png" ContentType="image/png"/>
  <Override PartName="/ppt/media/image16.jpeg" ContentType="image/jpeg"/>
  <Override PartName="/ppt/media/image62.png" ContentType="image/png"/>
  <Override PartName="/ppt/media/image51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72.png" ContentType="image/png"/>
  <Override PartName="/ppt/media/image9.png" ContentType="image/png"/>
  <Override PartName="/ppt/media/image75.png" ContentType="image/png"/>
  <Override PartName="/ppt/media/image22.jpeg" ContentType="image/jpeg"/>
  <Override PartName="/ppt/media/image69.png" ContentType="image/png"/>
  <Override PartName="/ppt/media/image2.png" ContentType="image/png"/>
  <Override PartName="/ppt/media/image32.png" ContentType="image/png"/>
  <Override PartName="/ppt/media/image67.png" ContentType="image/png"/>
  <Override PartName="/ppt/media/image30.png" ContentType="image/png"/>
  <Override PartName="/ppt/media/image63.png" ContentType="image/png"/>
  <Override PartName="/ppt/media/image14.jpeg" ContentType="image/jpeg"/>
  <Override PartName="/ppt/media/image31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4.png" ContentType="image/png"/>
  <Override PartName="/ppt/media/image26.png" ContentType="image/png"/>
  <Override PartName="/ppt/media/image8.jpeg" ContentType="image/jpeg"/>
  <Override PartName="/ppt/media/image39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28.jpeg" ContentType="image/jpeg"/>
  <Override PartName="/ppt/media/image1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3760" y="85320"/>
            <a:ext cx="8605800" cy="18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Ewolucja gwiazd I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16000" y="5151600"/>
            <a:ext cx="9520200" cy="21222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290520" y="2236680"/>
            <a:ext cx="94503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20" y="-360"/>
            <a:ext cx="100584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gławice planetar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7520" y="2641320"/>
            <a:ext cx="43862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dsłonięte gorące jądro węglowo -tlen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54640" y="893880"/>
            <a:ext cx="4308480" cy="445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94240" y="3232080"/>
            <a:ext cx="3886200" cy="3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20" y="-360"/>
            <a:ext cx="100584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gławice planetarne są ład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7160" y="6494040"/>
            <a:ext cx="948060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gławica M57 w gwiazdozbiorze Lutni. Odległość 3000 lat ś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71640" y="1038240"/>
            <a:ext cx="6237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20" y="-360"/>
            <a:ext cx="100584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gławice planetarne są ład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7160" y="6494400"/>
            <a:ext cx="948060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gławica M27 (Hantle) w gwiazdozbiorze Liska. Odległość 850 lat ś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17840" y="923760"/>
            <a:ext cx="68389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20" y="-360"/>
            <a:ext cx="100584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gławice planetarne są ład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51560" y="937800"/>
            <a:ext cx="3346560" cy="639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gławica Abell 39 w gwiazdozbiorze Herkul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dległość7000 lat świetln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0040" y="907920"/>
            <a:ext cx="607392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20" y="-360"/>
            <a:ext cx="100584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gławice planetarne są ład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48160" y="937800"/>
            <a:ext cx="3346200" cy="639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gławica IC 418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dległość2000 lat świetln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0040" y="907920"/>
            <a:ext cx="582948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9680"/>
            <a:ext cx="100584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gławice planetarne są ład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90760" y="6580080"/>
            <a:ext cx="33465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C 44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35120" y="1341360"/>
            <a:ext cx="84405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20" y="-360"/>
            <a:ext cx="100584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gławice planetarne są ład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1320" y="3463920"/>
            <a:ext cx="33465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79520" y="808200"/>
            <a:ext cx="582948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20" y="-360"/>
            <a:ext cx="100584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gławice planetarne są ład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21320" y="3463920"/>
            <a:ext cx="33465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360" y="4502160"/>
            <a:ext cx="3195720" cy="2903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59360" y="782640"/>
            <a:ext cx="4060800" cy="3314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58760" y="793800"/>
            <a:ext cx="4270320" cy="3938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979800" y="4135320"/>
            <a:ext cx="5951520" cy="3303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983040" y="1916280"/>
            <a:ext cx="21495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520" y="465120"/>
            <a:ext cx="943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laczego mgławice planetarne wyglądają tak jak wyglądaj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1320" y="3463920"/>
            <a:ext cx="334656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1600" y="2179800"/>
            <a:ext cx="962496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6600" y="-360"/>
            <a:ext cx="860580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 dzieje się po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541480" y="1255680"/>
            <a:ext cx="4341960" cy="59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miarę jak odsłania się gorące jądro mgławicy gwiazda przsuwa się w kierunku dużych temperatur (11-1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5600" y="1197000"/>
            <a:ext cx="4896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9360" y="201240"/>
            <a:ext cx="86058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łysk helow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956880" cy="62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 małomasywnych gwiazd helowe jądro jest zdegenerow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mostat nie działa. Zapoczątkowanie reakcji 3 alfa zwiększa temperaturę, ale nie zwiększy ciśnienia. Proces narasta lawinowo! Kończy się gdy wzrastająca temperatura zniesie degenerac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89120" y="2540160"/>
            <a:ext cx="3654360" cy="229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8400" y="2540160"/>
            <a:ext cx="41706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6600" y="-360"/>
            <a:ext cx="860580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 dzieje się po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41480" y="1255680"/>
            <a:ext cx="4341960" cy="59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między 12 a 13 węglowo -tlenowe jądro cały czas szybko się kurczy pod wpływem własnej grawitac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5600" y="1197000"/>
            <a:ext cx="4896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6600" y="-360"/>
            <a:ext cx="860580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 dzieje się po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1480" y="1255680"/>
            <a:ext cx="4341960" cy="59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punkcie 13 kolaps jest powstrzymany przez ciśnienie zdegenerowanego gazu elektronowego (zakaz Pauliego!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wstaja trwała konfiguracja: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iały karze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5600" y="1197000"/>
            <a:ext cx="4896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6600" y="-360"/>
            <a:ext cx="860580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iałe karł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67160" y="1255680"/>
            <a:ext cx="4811760" cy="59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rdzo trwała konfigurac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ały karzeł tylko stygnie i nie zmienia swoich rozmiar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ały karzeł ma masę typowo 0.4 -1.4 masy Słońca i rozmiary Ziem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cm3 materii z białego karła ważyłby na Ziemi 10 ton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" y="1197000"/>
            <a:ext cx="4896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-360"/>
            <a:ext cx="860580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iałe karł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67160" y="6349680"/>
            <a:ext cx="48117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61920" y="1009800"/>
            <a:ext cx="80424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6600" y="-360"/>
            <a:ext cx="860580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iałe karł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67160" y="6349680"/>
            <a:ext cx="48117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3800" y="1341360"/>
            <a:ext cx="80420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66780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iałe karły - masa Chandrasekh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67160" y="6349680"/>
            <a:ext cx="48117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4640" y="822240"/>
            <a:ext cx="860436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-360"/>
            <a:ext cx="860580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iałe karł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6000" y="1182600"/>
            <a:ext cx="4357440" cy="60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riusz -najjaśniejsza po Słońcu gwiazda na niebie - tworzy układ podwójny. Syriusz B to właśnie biały karze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64160" y="1133640"/>
            <a:ext cx="5256000" cy="3887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7404120" y="3478320"/>
            <a:ext cx="0" cy="952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85000" y="4560840"/>
            <a:ext cx="1932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cc66"/>
                </a:solidFill>
                <a:latin typeface="Times New Roman"/>
              </a:rPr>
              <a:t>Biały karze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4440" y="29880"/>
            <a:ext cx="953784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Ewolucja gwiazd masyw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9440" y="4920840"/>
            <a:ext cx="8883720" cy="24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ponad trzykrotnie masywniejsze od Słońca są w stanie zapalić węgiel w jądr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szystko się jednak kończy na Fe (A=5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nteza jąder Fe jest procesem endotermicznym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51000" y="804960"/>
            <a:ext cx="59198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4440" y="29880"/>
            <a:ext cx="953784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Ewolucja gwiazd masyw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39440" y="4920840"/>
            <a:ext cx="8883720" cy="24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79480" y="1054080"/>
            <a:ext cx="826776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4440" y="29880"/>
            <a:ext cx="953784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Ewolucja gwiazd masyw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8720" y="851040"/>
            <a:ext cx="9335880" cy="65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ądro gwiazdy gwiazdy kurczy się i podgrzew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temperaturze 5 -10 mld. K zaczyna się fotodezintegracja żela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est to proces silnie endotermiczny i odbiera otoczeniu całą energię. Jądro zapada się jeszcze szybciej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01680" y="2583000"/>
            <a:ext cx="62103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130320"/>
            <a:ext cx="860580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rogi ewolu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95880" y="1125000"/>
            <a:ext cx="47181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łysk hel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apoczątkowanie reakcji -&gt; wzrost temperatury  -&gt; puchnięcie jądra -&gt; obniżenie temeratury warstwy palącej wodór -&gt; obniżenie tempa produkcji energii -&gt; spadek jasności      -&gt; konrtakcja warstw zewnętrzny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120" y="1241280"/>
            <a:ext cx="4741920" cy="577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4387680" y="1355760"/>
            <a:ext cx="836640" cy="160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4440" y="145800"/>
            <a:ext cx="953784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eutronizacja mater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8720" y="851040"/>
            <a:ext cx="9335880" cy="65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92200" y="995400"/>
            <a:ext cx="894564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4440" y="145800"/>
            <a:ext cx="953784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eutronizacja mater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8720" y="966600"/>
            <a:ext cx="9335880" cy="64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utronizacja jest nieodwracalna, bo rozpady beta nie mogą zachodzić.  Powstające w jej wyniku elektrony miałyby zbyt małe energie (nie ma dla nich miejsca w przestrzeni fazowej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es neutronizacji prowadzi do powstawania coraz słabiej związanych jąder. Dla gęstości rzędu 10^14 g/cm3 energia wiązania maleje do zera i jądra rozpadaja się na swobodne neutron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96600" y="144000"/>
            <a:ext cx="86058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Gwiazdy neutron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42960" y="1153800"/>
            <a:ext cx="57135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utrony też są fermionami i obowiązuje je zakaz Pauliego. To powstrzymuje zapadanie się jąd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wstaje obiekt złożony głównie z neutronów o promieniu kilku kilometrów i masie 1-2 mas Słoń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cm3 materii z gwiazdy neutronowej ważyłby na Ziemi miliard ton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7600" y="1500120"/>
            <a:ext cx="3925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200" y="15840"/>
            <a:ext cx="8605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Gwiazdy neutron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65720" y="1010880"/>
            <a:ext cx="571320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54160" y="765000"/>
            <a:ext cx="779148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6600" y="144000"/>
            <a:ext cx="86058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upern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960" y="1298520"/>
            <a:ext cx="93506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ateria neutronowa jest nieściśliwa! Obadające warstwy zewnętrzne odbijają się gwałtownie od gwiazdy neutronowej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wiazda wybucha jako supernow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lość wyemitowanej energii jest porównywalna z energią emitowaną przez całą galaktykę (milrady gwiazd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6600" y="144000"/>
            <a:ext cx="86058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upernowa SN1987A w LM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8400" y="6060600"/>
            <a:ext cx="9350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zed wybuchem         Po wybuch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19200" y="1066680"/>
            <a:ext cx="7066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6600" y="144000"/>
            <a:ext cx="86058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upernowa w odległej galakty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8400" y="5454360"/>
            <a:ext cx="9350280" cy="16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iekawostką jest fakt, że mieszkańcy owej galaktyki mogli nawet nie wiedzieć, że w ich sąsiedztwie wybuchła supernow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46240" y="1230480"/>
            <a:ext cx="5586480" cy="37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144000"/>
            <a:ext cx="86058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zostałości  po  supern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8400" y="5454360"/>
            <a:ext cx="9350280" cy="16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łoda                            Sta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1 Krab - 1054 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23880" y="1204920"/>
            <a:ext cx="4352760" cy="4089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181480" y="1235160"/>
            <a:ext cx="40975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160" y="172800"/>
            <a:ext cx="98982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Krzywe zmian blasku supern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83120" y="1168200"/>
            <a:ext cx="3087720" cy="59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óżne typy krzywych sugerująrózne mechanizm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N1987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3440" y="1197000"/>
            <a:ext cx="6219720" cy="5956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 flipV="1">
            <a:off x="3430440" y="4689360"/>
            <a:ext cx="4376880" cy="15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1160" y="172800"/>
            <a:ext cx="98982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upernowe i gwiazdy neutron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83120" y="1168200"/>
            <a:ext cx="3087720" cy="59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zostałość po supernowej wraz z gwiazdą neutronow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djęcie wykonane w promieniach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31920" y="1241280"/>
            <a:ext cx="621972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3760" y="144360"/>
            <a:ext cx="86058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Gałąź horyzonta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94360" y="1154160"/>
            <a:ext cx="4689360" cy="61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olejny stabilny etap w ewolucji gwiazdy. Osiada  ona na tzw. gałęzi horyzontalne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5640" y="1182600"/>
            <a:ext cx="45640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6600" y="115560"/>
            <a:ext cx="86058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ardzo masywne gwiaz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9080" y="1312920"/>
            <a:ext cx="95090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awitacja gwiazd o masie przynajmniej 10 mas Słońca jest w stanie przełamaćciśnienie zdegenerowanych neutron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wstaje czarna dzi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ym jest czarna dziu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96600" y="115560"/>
            <a:ext cx="86058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zarne dzi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9080" y="6176520"/>
            <a:ext cx="9509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87480" y="1154160"/>
            <a:ext cx="82468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115560"/>
            <a:ext cx="86058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Krótkie podsumow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9080" y="6176520"/>
            <a:ext cx="9509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00120" y="906480"/>
            <a:ext cx="673884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5040" y="201240"/>
            <a:ext cx="86058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estowanie mode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5680" y="5253120"/>
            <a:ext cx="55260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omady otwarte są mł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00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ej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6720" y="1100160"/>
            <a:ext cx="5086440" cy="3935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99080" y="1111320"/>
            <a:ext cx="433224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5040" y="201240"/>
            <a:ext cx="86058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Gromady otw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760" y="4444920"/>
            <a:ext cx="497664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 i h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20" y="998640"/>
            <a:ext cx="4865760" cy="3398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195880" y="995400"/>
            <a:ext cx="4718160" cy="3419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195880" y="4444920"/>
            <a:ext cx="4689360" cy="2943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>
            <a:off x="3087720" y="3435480"/>
            <a:ext cx="3608280" cy="237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087720" y="6046560"/>
            <a:ext cx="3551040" cy="952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3160" y="144360"/>
            <a:ext cx="958032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iagramy HR dla gromad otwart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43360" y="5022360"/>
            <a:ext cx="4111560" cy="23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0" algn="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awie wszystkie gwiazdy leżą jeszcze na ciągu głównym. Wiek wyraża się więc w milionach l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14200" y="3587760"/>
            <a:ext cx="3436920" cy="3732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673360" y="1838160"/>
            <a:ext cx="3456000" cy="3970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981760" y="1049400"/>
            <a:ext cx="33033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3160" y="144360"/>
            <a:ext cx="958032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iagramy HR dla gromad otwart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4320" y="6321240"/>
            <a:ext cx="948060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7760" y="1386000"/>
            <a:ext cx="4559040" cy="4817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006880" y="1400040"/>
            <a:ext cx="4721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3160" y="144360"/>
            <a:ext cx="958032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iagramy HR dla gromad otwart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4320" y="6321240"/>
            <a:ext cx="948060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54080" y="1096920"/>
            <a:ext cx="799452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3160" y="144360"/>
            <a:ext cx="958032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Gromady kul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4320" y="6321240"/>
            <a:ext cx="948060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60280" y="995400"/>
            <a:ext cx="3836880" cy="3014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18040" y="2120760"/>
            <a:ext cx="4114800" cy="310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340240" y="4473720"/>
            <a:ext cx="4568760" cy="2884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09560" y="3983040"/>
            <a:ext cx="2710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663300"/>
                </a:solidFill>
                <a:latin typeface="Times New Roman"/>
              </a:rPr>
              <a:t>Omega C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8240" y="1717560"/>
            <a:ext cx="2262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c1900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4c1900"/>
                </a:solidFill>
                <a:latin typeface="Times New Roman"/>
              </a:rPr>
              <a:t>M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35880" y="4098960"/>
            <a:ext cx="89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c1900"/>
                </a:solidFill>
                <a:latin typeface="Times New Roman"/>
              </a:rPr>
              <a:t>M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000" y="158400"/>
            <a:ext cx="966780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iagramy HR dla gromad kulist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0360" y="1269720"/>
            <a:ext cx="3059280" cy="60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GC 63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17520" y="1255680"/>
            <a:ext cx="637704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3760" y="144360"/>
            <a:ext cx="86058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uperolbrzy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99000" y="1154160"/>
            <a:ext cx="4284720" cy="61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 wyczerpaniu zapasów helu w jądrze etapy 10-11 są niejako powtórzeniem ewolucji po wyczerpaniu wodoru w jądrze (8-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8200" y="1182600"/>
            <a:ext cx="495468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000" y="158400"/>
            <a:ext cx="966780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Jaki jest wiek gromad kulisty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360" y="1269720"/>
            <a:ext cx="3059280" cy="60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GC 63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ek: 12 miliardów l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17520" y="1255680"/>
            <a:ext cx="637704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000" y="158400"/>
            <a:ext cx="966780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 gromadach kulistych są białe karł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0280" y="6508440"/>
            <a:ext cx="963936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ałe karły w gromadzie M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70120" y="1301760"/>
            <a:ext cx="8046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560" y="-360"/>
            <a:ext cx="96678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kąd wiemy, że to białe karł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0280" y="6508440"/>
            <a:ext cx="963936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84160" y="765000"/>
            <a:ext cx="81486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8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23800" y="6292800"/>
            <a:ext cx="775476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e6e6e6"/>
                </a:solidFill>
                <a:latin typeface="Times New Roman"/>
              </a:rPr>
              <a:t>Gwiazdy podwój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0280" y="6508440"/>
            <a:ext cx="963936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920" y="85320"/>
            <a:ext cx="975528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kąd wiemy, że istnieją układy podwój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0280" y="6508440"/>
            <a:ext cx="963936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506760" y="3897360"/>
            <a:ext cx="6318360" cy="3421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23720" y="958680"/>
            <a:ext cx="4569120" cy="37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920" y="186840"/>
            <a:ext cx="975528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rbity gwiazd podwój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0280" y="6508440"/>
            <a:ext cx="963936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5040" y="1933560"/>
            <a:ext cx="871524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920" y="186840"/>
            <a:ext cx="975528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rbity gwiazd podwój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0280" y="6508440"/>
            <a:ext cx="963936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49440" y="1154160"/>
            <a:ext cx="87152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920" y="186840"/>
            <a:ext cx="975528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rbity gwiazd podwój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0280" y="6508440"/>
            <a:ext cx="963936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165400" y="1457280"/>
            <a:ext cx="7547040" cy="575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68200" y="947880"/>
            <a:ext cx="44211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920" y="186840"/>
            <a:ext cx="975528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Prędkość radial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0280" y="6508440"/>
            <a:ext cx="963936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58880" y="1658880"/>
            <a:ext cx="8337600" cy="582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7480" y="85680"/>
            <a:ext cx="33606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920" y="186840"/>
            <a:ext cx="975528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Prędkość radial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0280" y="6508440"/>
            <a:ext cx="963936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08200" y="1227240"/>
            <a:ext cx="833724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3760" y="144360"/>
            <a:ext cx="86058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uperolbrzy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59480" y="1312560"/>
            <a:ext cx="2424240" cy="59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uktura wewnętrzna gwiazdy jest bardziej złożo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8040" y="1054080"/>
            <a:ext cx="676584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94806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Jak mierzyć prędkość radialną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0280" y="5901840"/>
            <a:ext cx="953784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dy światło jest przesunięte ku czerwieni obiekt się od nas oddala, gdy ku fioletowi obiekt się przybliż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23960" y="1517760"/>
            <a:ext cx="8726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94806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Jak mierzyć prędkość radialną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0280" y="5901840"/>
            <a:ext cx="953784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nie widmowe gwiazd cyklicznie zmieniają swoje położen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66720" y="1301760"/>
            <a:ext cx="87264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94806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Jak mierzyć prędkość radialną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0280" y="5901840"/>
            <a:ext cx="953784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66720" y="1301760"/>
            <a:ext cx="87264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94806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Krzywa prędkości radial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0280" y="5901840"/>
            <a:ext cx="953784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38360" y="1069920"/>
            <a:ext cx="872640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94806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Krzywa prędkości radial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0280" y="5901840"/>
            <a:ext cx="953784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23960" y="1214280"/>
            <a:ext cx="872640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6058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Krzywa prędkości radial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2200" y="923760"/>
            <a:ext cx="8605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dy widać linie tylko jedego składnik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252440" y="1500120"/>
            <a:ext cx="762156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94806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Krzywa prędkości radial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499000" y="1355400"/>
            <a:ext cx="4213440" cy="56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dy w widmie widaćlinie obu składników mamy więcej obserwab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66640" y="1116000"/>
            <a:ext cx="517536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94806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Krzywa prędkości radial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9000" y="1355400"/>
            <a:ext cx="4213440" cy="56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77960" y="1397160"/>
            <a:ext cx="847224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94806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Potencja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499000" y="1355400"/>
            <a:ext cx="4213440" cy="56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19120" y="1150920"/>
            <a:ext cx="90043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owierzchnie Roche'a i punkty Largange'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499000" y="1355400"/>
            <a:ext cx="4213440" cy="56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747800" y="1009800"/>
            <a:ext cx="668016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230040"/>
            <a:ext cx="860580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uperolbrzy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5440" y="1501920"/>
            <a:ext cx="50641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kłady podwój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-360" y="850680"/>
            <a:ext cx="100789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) ponadkontaktowy   b) kontaktowy  c) rozdzielony  d) półrozdzielo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988380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5040" y="129960"/>
            <a:ext cx="86058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óżne masy -różna ewoluc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2800" y="1037880"/>
            <a:ext cx="9783720" cy="33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o masach mniejszych niż 0.8 masy Słońca nie są w stanie zapoczątkować procesu    3 al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o masach z przedziału 0.8 -3 masy Słońca nie są w stanie zapalićwęgla w jądr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o masie większej niż 3 masy Słońca zapalają węgiel w jądrze (T &gt; 600 mln 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28840" y="4518000"/>
            <a:ext cx="7127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20" y="-360"/>
            <a:ext cx="100584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alsza ewolucja gwiazd podobnych do Słoń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7480" y="1270080"/>
            <a:ext cx="4386240" cy="59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kombinacja wodoru w warstwach zewnętrznych nadolbrzyma dostarcza energii i prowadzi do dalszego rozdęcia gwiazdy. To przesuwa warstwę rekombinującą wgłąb i dostarcza jeszcze więcej energ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ces przyspiesza i gwiazda odrzuca swoje warstwy zewnątrzne odsłaniając gorące jądro (11-1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5600" y="1197000"/>
            <a:ext cx="4896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8:20:09Z</dcterms:created>
  <dc:creator/>
  <dc:description/>
  <dc:language>en-US</dc:language>
  <cp:lastModifiedBy> </cp:lastModifiedBy>
  <cp:revision>0</cp:revision>
  <dc:subject/>
  <dc:title/>
</cp:coreProperties>
</file>