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49D-B73E-4E82-BEC8-77194408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A4D-4B90-4036-9A8D-8AE4C9E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E0A-98C0-428E-BB41-B02D0B76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206-9455-459D-B476-247633BA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9B6-2D2D-4126-902C-C540445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B98-714A-4B41-9B6D-69A5D8EE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B5F-0E8B-46CE-AABF-0331000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A95-A47A-45F5-938D-82BB64C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25F-C1FA-40F0-ABCE-BA030515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F3D-B696-42A1-8173-9D4EF18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FDD-91AA-46E1-BD42-31C57FF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EC6-CB08-41D0-8D67-F675F1F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B8A-28A8-4678-89FB-6EEABE45A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640720" cy="62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ZNES PLAN STACJI PALIW PŁYN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POMYS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kupie i prowadzenie stacji paliw płynnych wraz z częścią motelowo - restauracyjną, zlokalizowanej na odcinku X - Y na trasie Warszawa-Poznań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HARMON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INANSOW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1 700 tys. zł - środki włas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800 tys. zł - kredyt inwestycyjny (np. CHF, Euro, USD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PROGNOZY FINANS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rednia cenę sprzedaży benzyny w tej wysokości tj. 4,5 zł z VAT za 1 litr (czyli 3,689 zł bez VAT). W okresie 2007-2011 założono wzrost co roku o 10 groszy do poziomu 4,189z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rednia cenę sprzedaży 1 litra ON w wysokości 3,9 zł z VAT (czyli 3,197 zł bez VAT). Wwzrost ceny sprzedaży 1 litra ON o 10 groszy rocznie w latach 2007-2011 do poziomu 3,697 z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42920" y="1989000"/>
          <a:ext cx="7345440" cy="1700280"/>
        </p:xfrm>
        <a:graphic>
          <a:graphicData uri="http://schemas.openxmlformats.org/drawingml/2006/table">
            <a:tbl>
              <a:tblPr/>
              <a:tblGrid>
                <a:gridCol w="1177920"/>
                <a:gridCol w="61675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2.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up stacji paliw płynnych od dotychczasowego właściciela za 6,5 mln z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1.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chomienie kredytu inwestycyjnego w wysokości 4,8 mln zł na okres 10 l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trudnienie nowych 3 osó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udowanie parkingu dla TIR-ów: 350 tys. Z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1.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trudnienie nowych 3 osó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owa ręcznej automyjni: 150 tys. Z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płaty ostatniej 39-ej raty kapitał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5:15:51Z</dcterms:created>
  <dc:creator>Doktoranci u Prof. Holysta</dc:creator>
  <dc:description/>
  <dc:language>en-US</dc:language>
  <cp:lastModifiedBy>Doktoranci u Prof. Holysta</cp:lastModifiedBy>
  <dcterms:modified xsi:type="dcterms:W3CDTF">2006-06-07T15:35:57Z</dcterms:modified>
  <cp:revision>2</cp:revision>
  <dc:subject/>
  <dc:title>Slajd 1</dc:title>
</cp:coreProperties>
</file>